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2932-6A39-4063-B048-D017237AC1F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72D6-9309-499B-B633-E3474B22BAA1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E404-8E92-448E-A98A-7CC69EFC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4A3-40B9-42AB-A1B0-62411984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E966-47DE-40CC-AB56-6D6E67F0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9DDD-680B-4B41-90FF-20AF5752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67BF-0084-4FF2-89C7-DE83E80F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32E1-0B47-4475-A1B7-E2C66066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97AF-238D-41A9-A8A6-50798438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E171-8790-445C-B907-7AB9438B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D22F-59AE-4C42-8AE7-FDD973E3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9956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961E-8C93-4E7A-B59E-8C467A33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5E6E-4155-4CD8-B96D-D05B2DC4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6E3D-ECC8-474E-8D30-71C3A8D1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F783-B1B6-48C9-8354-CED12ABB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24E7-5074-4E4C-B5C2-E41A78EF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7310-0401-43BA-A17A-1F42CC8E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FE65-5203-4AAE-843B-42C08AA1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64B9-DEE0-4CD7-A1EA-9489041D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0090E-96ED-4920-8556-782F903F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64C8A-3CAD-4C7B-9CDB-05C9EC24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FD14A3-5E7C-4F47-8314-86BDE8FD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2B032D-96C2-4051-963A-FD83AD86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480F3-83DA-448A-B280-6662ED6E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C48-0AC1-46D8-8A58-8FC5C52A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9956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DEFF8-F5FB-482E-B569-9D8B17B0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852D0-283A-45CF-858D-A00328C9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E5D66-84D2-48DE-AC70-9D312709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A5723-EF0E-42A5-AA77-E6B0C8DB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6BDFD-C7FE-4D51-84E8-830AE6CC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D3E56-DA87-4BE1-8C37-F0006C8A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A0E18-7B13-44A7-ACEE-1F242DF6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95302-C99E-4CD4-9D32-FAF59EA2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8CD92-0B43-42E2-8000-A9A01726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48820-0448-4F06-AB7C-BA149905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A229-BE9B-4CB6-B53C-22EB3909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EEE8E-B8B3-4E34-830A-6078240B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7A594-C653-4319-9257-4E7DAB4A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9956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8AB93-0932-431C-92CE-6417B5F0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17208-1199-4EF6-816F-ADB1351A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27528-79AE-4A4B-B40A-8F86C720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3ED5F-850E-437E-8115-59ECA992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3CBD1-354F-4062-9AA9-EE0D0C7C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79BEB-5EAA-4565-B678-4C076EAA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462B8-32EE-47F2-91C0-EBF5B096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6F82EF-6BDB-4CAF-88DA-5EA90EF0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F37-F6C1-4E3B-AAC3-E9D9D142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ACC15D-0261-48EE-B1F5-73E82736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1639E4-8AB4-4A98-9BF4-0BE350B8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9941A0-F118-464A-ADD7-D67DBABA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542B1D-4B76-4EB3-A270-B2DBE44A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9956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5CEC5B-5541-41F4-8775-AC442FB0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54B132-3F8C-4C6B-B673-DAE875FD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3EC8D5-813B-4E78-97AF-73EAE169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D561C0-2685-4D5D-8304-23903E93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8EB0A8-BC1F-4AC8-833A-403BB4E7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DEF505-2E9D-47DE-A879-411508A6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9956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C40-0265-48B4-AEB5-152720DF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86D0FB-9F6B-410C-AD63-497DE98D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E52AE8-88BE-472E-AEE3-AD36DE3C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BA1D86-237A-4C73-8D27-64AC412D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0EE03F-7FDA-4CAB-9236-CE6D0D2D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1661CE-F721-44B0-9505-E8522341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8E7CFB-8412-4B66-914F-3886902A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9956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246D17-6168-4992-94E5-5A4BC391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321FCF-457C-427C-9334-280BC023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E791F4-E116-4DB7-BA26-088FD321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45304D-9EC5-4B4E-A556-2C2CCF5B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20AE-BA70-4875-8504-F9AC8D83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1D667E-FDE4-4B48-8CC7-6B538CFC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A3B0A4-B12E-4AF0-B2E9-6CF63D93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37EC89-3367-4911-8451-DBF83213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61C377-3AD0-4CF9-8EAD-BDE7BD4F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546BFB-22CD-4B10-A7EB-3046040D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70E4D3-D3AE-46B4-AF9D-9FC3FE4E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4FA4BC-0B0E-44E0-9131-8AB04247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9A0F83-BB8B-4C1D-BE20-0666B1FF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9956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52ED94-EF11-4287-8484-8A33CC3E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EB69B3-4D1E-431B-A454-96A1B6CD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97AE-8643-4F75-AECD-90DA2680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A1E9B4-4E14-412F-A2E3-19754247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58C96F-0FBC-494C-89CD-D8DEF25B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229073-08E0-45A4-B43D-12F1A95C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7993E4-21D5-4506-A457-04A6FD5C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FA2443-1B06-4C4B-975D-4CB71791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16C8-0032-421C-8A4B-29EAA1D6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Łącznik prostoliniowy 15"/>
          <p:cNvSpPr/>
          <p:nvPr/>
        </p:nvSpPr>
        <p:spPr>
          <a:xfrm>
            <a:off x="1168416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10453680" y="1017000"/>
            <a:ext cx="201132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A5F8-D3DB-4579-A5DB-50E83BEC1DE0}" type="datetime">
              <a:rPr b="0" lang="pl-PL" sz="1200" spc="-1" strike="noStrike">
                <a:solidFill>
                  <a:srgbClr val="1f497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9852840" y="3675960"/>
            <a:ext cx="32004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Łącznik prostoliniowy 6"/>
          <p:cNvSpPr/>
          <p:nvPr/>
        </p:nvSpPr>
        <p:spPr>
          <a:xfrm>
            <a:off x="1015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Łącznik prostoliniowy 8"/>
          <p:cNvSpPr/>
          <p:nvPr/>
        </p:nvSpPr>
        <p:spPr>
          <a:xfrm>
            <a:off x="11988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9"/>
          <p:cNvSpPr/>
          <p:nvPr/>
        </p:nvSpPr>
        <p:spPr>
          <a:xfrm>
            <a:off x="11785680" y="0"/>
            <a:ext cx="40644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Łącznik prostoliniowy 10"/>
          <p:cNvSpPr/>
          <p:nvPr/>
        </p:nvSpPr>
        <p:spPr>
          <a:xfrm>
            <a:off x="118872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10875960" y="5715000"/>
            <a:ext cx="73188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83924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4621-C80F-47A7-927E-21CE184588C7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ostokąt 12"/>
          <p:cNvSpPr/>
          <p:nvPr/>
        </p:nvSpPr>
        <p:spPr>
          <a:xfrm>
            <a:off x="507960" y="0"/>
            <a:ext cx="81288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rostokąt 14"/>
          <p:cNvSpPr/>
          <p:nvPr/>
        </p:nvSpPr>
        <p:spPr>
          <a:xfrm>
            <a:off x="368280" y="0"/>
            <a:ext cx="13968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rostokąt 16"/>
          <p:cNvSpPr/>
          <p:nvPr/>
        </p:nvSpPr>
        <p:spPr>
          <a:xfrm>
            <a:off x="1320840" y="0"/>
            <a:ext cx="24300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rostokąt 17"/>
          <p:cNvSpPr/>
          <p:nvPr/>
        </p:nvSpPr>
        <p:spPr>
          <a:xfrm>
            <a:off x="1522440" y="0"/>
            <a:ext cx="30636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Łącznik prostoliniowy 10"/>
          <p:cNvSpPr/>
          <p:nvPr/>
        </p:nvSpPr>
        <p:spPr>
          <a:xfrm>
            <a:off x="14112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Łącznik prostoliniowy 17"/>
          <p:cNvSpPr/>
          <p:nvPr/>
        </p:nvSpPr>
        <p:spPr>
          <a:xfrm>
            <a:off x="121932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Łącznik prostoliniowy 19"/>
          <p:cNvSpPr/>
          <p:nvPr/>
        </p:nvSpPr>
        <p:spPr>
          <a:xfrm>
            <a:off x="1138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Łącznik prostoliniowy 15"/>
          <p:cNvSpPr/>
          <p:nvPr/>
        </p:nvSpPr>
        <p:spPr>
          <a:xfrm>
            <a:off x="230364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Łącznik prostoliniowy 14"/>
          <p:cNvSpPr/>
          <p:nvPr/>
        </p:nvSpPr>
        <p:spPr>
          <a:xfrm>
            <a:off x="142236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Łącznik prostoliniowy 21"/>
          <p:cNvSpPr/>
          <p:nvPr/>
        </p:nvSpPr>
        <p:spPr>
          <a:xfrm>
            <a:off x="121521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6"/>
          <p:cNvSpPr/>
          <p:nvPr/>
        </p:nvSpPr>
        <p:spPr>
          <a:xfrm>
            <a:off x="1625760" y="0"/>
            <a:ext cx="10152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1117440" y="3429000"/>
            <a:ext cx="142272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928880" y="4867200"/>
            <a:ext cx="67320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454040" y="5500800"/>
            <a:ext cx="18432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2217600" y="5788080"/>
            <a:ext cx="36684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2540160" y="4495680"/>
            <a:ext cx="48708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3406680" y="216000"/>
            <a:ext cx="5378400" cy="9316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 rot="5400000">
            <a:off x="10733040" y="1110960"/>
            <a:ext cx="22860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C288-2541-4125-8F22-F3FCA632DE2A}" type="datetime">
              <a:rPr b="0" lang="pl-PL" sz="1200" spc="-1" strike="noStrike">
                <a:solidFill>
                  <a:srgbClr val="1f497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 rot="5400000">
            <a:off x="10045800" y="4118040"/>
            <a:ext cx="3657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1766880" y="4929120"/>
            <a:ext cx="8128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A515-9EF4-40F0-A588-F0B1B8BCDDE3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Łącznik prostoliniowy 15"/>
          <p:cNvSpPr/>
          <p:nvPr/>
        </p:nvSpPr>
        <p:spPr>
          <a:xfrm>
            <a:off x="1168416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Łącznik prostoliniowy 6"/>
          <p:cNvSpPr/>
          <p:nvPr/>
        </p:nvSpPr>
        <p:spPr>
          <a:xfrm>
            <a:off x="1015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Łącznik prostoliniowy 8"/>
          <p:cNvSpPr/>
          <p:nvPr/>
        </p:nvSpPr>
        <p:spPr>
          <a:xfrm>
            <a:off x="11988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9"/>
          <p:cNvSpPr/>
          <p:nvPr/>
        </p:nvSpPr>
        <p:spPr>
          <a:xfrm>
            <a:off x="11785680" y="0"/>
            <a:ext cx="40644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Łącznik prostoliniowy 10"/>
          <p:cNvSpPr/>
          <p:nvPr/>
        </p:nvSpPr>
        <p:spPr>
          <a:xfrm>
            <a:off x="118872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lipsa 11"/>
          <p:cNvSpPr/>
          <p:nvPr/>
        </p:nvSpPr>
        <p:spPr>
          <a:xfrm>
            <a:off x="10875960" y="5715000"/>
            <a:ext cx="73188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3406680" y="216000"/>
            <a:ext cx="5378400" cy="931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 rot="5400000">
            <a:off x="10453680" y="1017000"/>
            <a:ext cx="201132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1198-DC51-41F8-B1B4-2504D4298EF5}" type="datetime">
              <a:rPr b="0" lang="pl-PL" sz="1200" spc="-1" strike="noStrike">
                <a:solidFill>
                  <a:srgbClr val="1f497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8"/>
          </p:nvPr>
        </p:nvSpPr>
        <p:spPr>
          <a:xfrm>
            <a:off x="1083924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A631-6568-42DF-8701-BF777B6AB868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9"/>
          </p:nvPr>
        </p:nvSpPr>
        <p:spPr>
          <a:xfrm rot="5400000">
            <a:off x="9852840" y="3675960"/>
            <a:ext cx="32004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rostokąt 12"/>
          <p:cNvSpPr/>
          <p:nvPr/>
        </p:nvSpPr>
        <p:spPr>
          <a:xfrm>
            <a:off x="507960" y="0"/>
            <a:ext cx="81288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rostokąt 14"/>
          <p:cNvSpPr/>
          <p:nvPr/>
        </p:nvSpPr>
        <p:spPr>
          <a:xfrm>
            <a:off x="368280" y="0"/>
            <a:ext cx="13968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rostokąt 16"/>
          <p:cNvSpPr/>
          <p:nvPr/>
        </p:nvSpPr>
        <p:spPr>
          <a:xfrm>
            <a:off x="1320840" y="0"/>
            <a:ext cx="24300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rostokąt 17"/>
          <p:cNvSpPr/>
          <p:nvPr/>
        </p:nvSpPr>
        <p:spPr>
          <a:xfrm>
            <a:off x="1522440" y="0"/>
            <a:ext cx="30636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Łącznik prostoliniowy 12"/>
          <p:cNvSpPr/>
          <p:nvPr/>
        </p:nvSpPr>
        <p:spPr>
          <a:xfrm>
            <a:off x="14112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Łącznik prostoliniowy 13"/>
          <p:cNvSpPr/>
          <p:nvPr/>
        </p:nvSpPr>
        <p:spPr>
          <a:xfrm>
            <a:off x="121932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Łącznik prostoliniowy 14"/>
          <p:cNvSpPr/>
          <p:nvPr/>
        </p:nvSpPr>
        <p:spPr>
          <a:xfrm>
            <a:off x="1138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Łącznik prostoliniowy 15"/>
          <p:cNvSpPr/>
          <p:nvPr/>
        </p:nvSpPr>
        <p:spPr>
          <a:xfrm>
            <a:off x="230364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Łącznik prostoliniowy 16"/>
          <p:cNvSpPr/>
          <p:nvPr/>
        </p:nvSpPr>
        <p:spPr>
          <a:xfrm>
            <a:off x="142236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25"/>
          <p:cNvSpPr/>
          <p:nvPr/>
        </p:nvSpPr>
        <p:spPr>
          <a:xfrm>
            <a:off x="1625760" y="0"/>
            <a:ext cx="10152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6"/>
          <p:cNvSpPr/>
          <p:nvPr/>
        </p:nvSpPr>
        <p:spPr>
          <a:xfrm>
            <a:off x="812880" y="3429000"/>
            <a:ext cx="172728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7"/>
          <p:cNvSpPr/>
          <p:nvPr/>
        </p:nvSpPr>
        <p:spPr>
          <a:xfrm>
            <a:off x="1765440" y="4867200"/>
            <a:ext cx="8571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28"/>
          <p:cNvSpPr/>
          <p:nvPr/>
        </p:nvSpPr>
        <p:spPr>
          <a:xfrm>
            <a:off x="1454040" y="5500800"/>
            <a:ext cx="18432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lipsa 29"/>
          <p:cNvSpPr/>
          <p:nvPr/>
        </p:nvSpPr>
        <p:spPr>
          <a:xfrm>
            <a:off x="2217600" y="5791320"/>
            <a:ext cx="36684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lipsa 30"/>
          <p:cNvSpPr/>
          <p:nvPr/>
        </p:nvSpPr>
        <p:spPr>
          <a:xfrm>
            <a:off x="2506680" y="4479840"/>
            <a:ext cx="4856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Łącznik prostoliniowy 25"/>
          <p:cNvSpPr/>
          <p:nvPr/>
        </p:nvSpPr>
        <p:spPr>
          <a:xfrm>
            <a:off x="1213020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 rot="5400000">
            <a:off x="10731240" y="1106280"/>
            <a:ext cx="22860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614D-68F3-432C-9DA3-A60904E3F755}" type="datetime">
              <a:rPr b="0" lang="pl-PL" sz="1200" spc="-1" strike="noStrike">
                <a:solidFill>
                  <a:srgbClr val="eeece1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 rot="5400000">
            <a:off x="10045800" y="4114800"/>
            <a:ext cx="3657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1785960" y="4929120"/>
            <a:ext cx="8128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3AD2-8740-45F3-ABC5-6796FD15E95C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Łącznik prostoliniowy 15"/>
          <p:cNvSpPr/>
          <p:nvPr/>
        </p:nvSpPr>
        <p:spPr>
          <a:xfrm>
            <a:off x="1168416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Łącznik prostoliniowy 6"/>
          <p:cNvSpPr/>
          <p:nvPr/>
        </p:nvSpPr>
        <p:spPr>
          <a:xfrm>
            <a:off x="1015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Łącznik prostoliniowy 8"/>
          <p:cNvSpPr/>
          <p:nvPr/>
        </p:nvSpPr>
        <p:spPr>
          <a:xfrm>
            <a:off x="11988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rostokąt 9"/>
          <p:cNvSpPr/>
          <p:nvPr/>
        </p:nvSpPr>
        <p:spPr>
          <a:xfrm>
            <a:off x="11785680" y="0"/>
            <a:ext cx="40644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Łącznik prostoliniowy 10"/>
          <p:cNvSpPr/>
          <p:nvPr/>
        </p:nvSpPr>
        <p:spPr>
          <a:xfrm>
            <a:off x="118872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lipsa 11"/>
          <p:cNvSpPr/>
          <p:nvPr/>
        </p:nvSpPr>
        <p:spPr>
          <a:xfrm>
            <a:off x="10875960" y="5715000"/>
            <a:ext cx="73188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 rot="5400000">
            <a:off x="10453680" y="1017000"/>
            <a:ext cx="201132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3756-79E5-402D-B2DE-8759C409E8F9}" type="datetime">
              <a:rPr b="0" lang="pl-PL" sz="1200" spc="-1" strike="noStrike">
                <a:solidFill>
                  <a:srgbClr val="1f497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4"/>
          </p:nvPr>
        </p:nvSpPr>
        <p:spPr>
          <a:xfrm>
            <a:off x="1083924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CE8D-9AF9-4413-BB27-573B472D3F7A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5"/>
          </p:nvPr>
        </p:nvSpPr>
        <p:spPr>
          <a:xfrm rot="5400000">
            <a:off x="9852840" y="3675960"/>
            <a:ext cx="32004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Łącznik prostoliniowy 9"/>
          <p:cNvSpPr/>
          <p:nvPr/>
        </p:nvSpPr>
        <p:spPr>
          <a:xfrm>
            <a:off x="1168416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Łącznik prostoliniowy 7"/>
          <p:cNvSpPr/>
          <p:nvPr/>
        </p:nvSpPr>
        <p:spPr>
          <a:xfrm>
            <a:off x="8331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Łącznik prostoliniowy 8"/>
          <p:cNvSpPr/>
          <p:nvPr/>
        </p:nvSpPr>
        <p:spPr>
          <a:xfrm>
            <a:off x="825660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Łącznik prostoliniowy 10"/>
          <p:cNvSpPr/>
          <p:nvPr/>
        </p:nvSpPr>
        <p:spPr>
          <a:xfrm>
            <a:off x="11988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rostokąt 18"/>
          <p:cNvSpPr/>
          <p:nvPr/>
        </p:nvSpPr>
        <p:spPr>
          <a:xfrm>
            <a:off x="11785680" y="0"/>
            <a:ext cx="40644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Łącznik prostoliniowy 12"/>
          <p:cNvSpPr/>
          <p:nvPr/>
        </p:nvSpPr>
        <p:spPr>
          <a:xfrm>
            <a:off x="118872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lipsa 20"/>
          <p:cNvSpPr/>
          <p:nvPr/>
        </p:nvSpPr>
        <p:spPr>
          <a:xfrm>
            <a:off x="10875960" y="5715000"/>
            <a:ext cx="73188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 rot="5400000">
            <a:off x="10453680" y="1017000"/>
            <a:ext cx="201132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2092-C35B-4DC4-ACB7-908D4FB10ABE}" type="datetime">
              <a:rPr b="0" lang="pl-PL" sz="1200" spc="-1" strike="noStrike">
                <a:solidFill>
                  <a:srgbClr val="1f497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7"/>
          </p:nvPr>
        </p:nvSpPr>
        <p:spPr>
          <a:xfrm>
            <a:off x="1083924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7C13-F8F9-47FB-B698-1E3F849E8C31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8"/>
          </p:nvPr>
        </p:nvSpPr>
        <p:spPr>
          <a:xfrm rot="5400000">
            <a:off x="9852840" y="3675960"/>
            <a:ext cx="32004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Łącznik prostoliniowy 8"/>
          <p:cNvSpPr/>
          <p:nvPr/>
        </p:nvSpPr>
        <p:spPr>
          <a:xfrm>
            <a:off x="1168416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lipsa 14"/>
          <p:cNvSpPr/>
          <p:nvPr/>
        </p:nvSpPr>
        <p:spPr>
          <a:xfrm>
            <a:off x="10875960" y="5715000"/>
            <a:ext cx="73188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Łącznik prostoliniowy 9"/>
          <p:cNvSpPr/>
          <p:nvPr/>
        </p:nvSpPr>
        <p:spPr>
          <a:xfrm>
            <a:off x="11988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rostokąt 17"/>
          <p:cNvSpPr/>
          <p:nvPr/>
        </p:nvSpPr>
        <p:spPr>
          <a:xfrm>
            <a:off x="11785680" y="0"/>
            <a:ext cx="40644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Łącznik prostoliniowy 11"/>
          <p:cNvSpPr/>
          <p:nvPr/>
        </p:nvSpPr>
        <p:spPr>
          <a:xfrm>
            <a:off x="118872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Łącznik prostoliniowy 18"/>
          <p:cNvSpPr/>
          <p:nvPr/>
        </p:nvSpPr>
        <p:spPr>
          <a:xfrm>
            <a:off x="8331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Łącznik prostoliniowy 19"/>
          <p:cNvSpPr/>
          <p:nvPr/>
        </p:nvSpPr>
        <p:spPr>
          <a:xfrm>
            <a:off x="825660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 rot="5400000">
            <a:off x="10453680" y="1017000"/>
            <a:ext cx="201132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0F5D-0C1B-4288-A026-7926D0019074}" type="datetime">
              <a:rPr b="0" lang="pl-PL" sz="1200" spc="-1" strike="noStrike">
                <a:solidFill>
                  <a:srgbClr val="1f497d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0"/>
          </p:nvPr>
        </p:nvSpPr>
        <p:spPr>
          <a:xfrm>
            <a:off x="1083924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0FC7-306B-43D9-A71B-46E65F7A326D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1"/>
          </p:nvPr>
        </p:nvSpPr>
        <p:spPr>
          <a:xfrm rot="5400000">
            <a:off x="9852840" y="3675960"/>
            <a:ext cx="32004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71520" y="1699920"/>
            <a:ext cx="6977160" cy="29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1f497d"/>
                </a:solidFill>
                <a:latin typeface="Century Schoolbook"/>
              </a:rPr>
              <a:t>ZACHOWANIA AUTODESTRUKCYJNE MŁODZIEŻY – SAMOOKALECZENIA, ZACHOWANIA SUICYDALNE, ZABURZENIA ODŻYWIANIA – SYMPTOMY I EWENTUALNE ROZWIĄZANIA.</a:t>
            </a:r>
            <a:br>
              <a:rPr sz="2400"/>
            </a:br>
            <a:endParaRPr b="0" lang="en-US" sz="28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1" name="Symbol zastępczy numeru slajdu 2"/>
          <p:cNvSpPr/>
          <p:nvPr/>
        </p:nvSpPr>
        <p:spPr>
          <a:xfrm>
            <a:off x="1766880" y="4929120"/>
            <a:ext cx="812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F01E-7884-4FD8-8410-314EED309A4E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rostokąt 7"/>
          <p:cNvSpPr/>
          <p:nvPr/>
        </p:nvSpPr>
        <p:spPr>
          <a:xfrm>
            <a:off x="6240600" y="4651200"/>
            <a:ext cx="40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dr n zdr. Marta Giez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rostokąt 10"/>
          <p:cNvSpPr/>
          <p:nvPr/>
        </p:nvSpPr>
        <p:spPr>
          <a:xfrm>
            <a:off x="3625920" y="5805360"/>
            <a:ext cx="6357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  <a:ea typeface="Arial"/>
              </a:rPr>
              <a:t>Projekt pn. „Dla rodziny” - doskonalenie zawodowe kadr systemu wspierania rodziny i pieczy zastępczej jest współfinansowany przez Unię Europejską ze środków Europejskiego Funduszu Społecznego w ramach Programu Operacyjnego Wiedza Edukacja Rozwój na lata 2014-2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Autoagresj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działanie lub szereg działań mających na cel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powodowanie psychicznej albo fizycznej szkody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jest to agresja skierowana "do wewnątrz"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To zaburzenie instynktu samozachowawczego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który wyraża się tendencją do samookaleczeń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amouszkodzeń zagrażających zdrowiu, a nawe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życiu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E8D4-2B7E-4990-A4E4-8674AF051492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5" descr="C:\Users\mgiezek\Desktop\zyletka.jpg"/>
          <p:cNvPicPr/>
          <p:nvPr/>
        </p:nvPicPr>
        <p:blipFill>
          <a:blip r:embed="rId1"/>
          <a:stretch/>
        </p:blipFill>
        <p:spPr>
          <a:xfrm>
            <a:off x="6953400" y="5095800"/>
            <a:ext cx="26668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980720" y="1600200"/>
            <a:ext cx="8363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Typy zachowań autoagresywnych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Autoagresja bezpośrednia 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(bicie, samookaleczenie, samooskarżani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Autoagresja pośrednią 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(jednostka wymusza, prowokuje i poddaje się agresji innych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D553-0BFF-4282-9326-3B16A7CB561B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980720" y="1600200"/>
            <a:ext cx="8147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Typy zachowań autoagresywnych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Autoagresja werbalna 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aniżanie swej samooceny, wmawianie sobie własnej małej wartości, krytyka siebie i swojego zachowani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Autoagresja niewerbalna 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samookaleczenie 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 uszkodzenie ciała, które może mieć formę powierzchownych lub głębokich ran ciętych, wbijanie ostrych przedmiotów w ciało, połykanie ich, polewanie się kwasem, przypalanie, łamanie kości, uszkadzanie lub wycinanie fragmentów ciała, także narządów płciowych, powiek, gałek ocznych itp. </a:t>
            </a: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Jest to autoagresja jawn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1718-7484-4BA1-85CD-E098F21BA9B0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Autoagresja ukryt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ozorowanie objawów choroby fizycznej lub psychicznej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rzekonanie o  cierpieniu na poważną chorobę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aprzeczanie faktowi, że same wywołują swoje dolegliwośc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Schoolbook"/>
              </a:rPr>
              <a:t>Pozorowane są choroby układu pokarmowego (np. krwawieni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Schoolbook"/>
              </a:rPr>
              <a:t>z żołądka – połykanie krwi własnej lub zwierzęcej), nerek 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Schoolbook"/>
              </a:rPr>
              <a:t>moczowodów (kaleczenie narządów drutem), wywoływani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Schoolbook"/>
              </a:rPr>
              <a:t>gorączki (wstrzykiwanie do krwiobiegu soli fizjologicznej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Schoolbook"/>
              </a:rPr>
              <a:t>zanieczyszczonej moczem, śliną i innymi substancjami). 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7803-0D6F-4123-A4F7-9D69E5D17282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ie należy mylić celu ze skutkiem zachowania autoagresywnego - krzywda wyrządzona sob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ie jest jednoznaczna z wystąpieniem chęci skrzywdzenia siebi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kutek jest „produktem ubocznym” a nie podstawowym i jedynym motywem podejmowania działań autoagresywnych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amookaleczenia nie są podejmowane z uwagi na ich negatywne następstwa, ale pomimo ich negatywnych następstw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BF17-D470-4C4D-8DAB-1B15C449F18E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Autoagresja wykracza poza przyjęte kulturow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orm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- jednocześnie 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wzrasta akceptacja społeczna dla różnyc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ingerencji we własne ciało podyktowane względam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estetycznymi np.  Tatuaże ,body piercing, zabiegi 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operacje plastycz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2A51-307F-4A31-87F6-458A9299F5DA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Zachowania autoagresywne to również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uzależnienia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aburzenia łaknienia (anoreksja, bulimia)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celowe zaniedbywanie własnych potrzeb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drastyczne, wyczerpujące i wyniszczające die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wyczerpujące ćwiczenia fizycz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10C3-B49B-4CA9-BC52-719968A2EB38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Samouszkodzenie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akt polegający na celowym zadawaniu bólu i/lu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ran swemu ciału, pozbawiony jednakże intencj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amobójczej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CD94-FA6D-46B3-A642-1C08E6C86322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Formy samouszkodzeń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acinanie skóry ostrym narzędziem– najczęściej: przedramię, i ramię, wewnętrzne strony ud- żyletka, szkło, nóż, kapsel, temperówk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drapanie – np. cyrklem, szpilką; gryzienie lub pocieranie do uszkodzeń skóry, nakłuwan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intensywne szorowanie skóry, doprowadzające do zdarcia naskórka tzw. mokre (+ polewanie środkami czyszczącymi) lub suche (przy użyciu np. ołówka, cyrkla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E092-2567-43A9-A4E3-A966643FFC8F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ołykanie ostrych przedmiotów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oparzenia wodą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oparzenia chemikaliami na rany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rzypalanie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adawanie sobie ciosów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obijanie się o ściany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uderzanie o coś twardego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wyrywanie włosów, brwi, rzęs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odduszanie się - torby plastikowe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odwieszanie, podwiązywanie kończyn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rowokowanie wypadków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F087-292B-4991-AB81-21307356E89B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981080" y="1600200"/>
            <a:ext cx="8291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Plan Prezentacj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ojęcie autodestruktywnośc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Autoagresja, samookaleczenia – definicje i typolog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achowania suicydalne – od problemu do problemu w poszukiwaniu ratunk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aburzenia odżywiania – rodzaje, formy, objaw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achowania autodestrukcyjne - formy pomocy i praca z młodzieżą, praca z rodzin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Jak uniknąć dramatycznych błędów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Czas na pytania i podsumowan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56B6-BB23-416A-88B8-44DB9507E2C8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Wspólną cechą tych zachowań jest to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że nie prowadzą do śmierci 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ich intencją nie jest unicestwien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a poprzez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adanie bólu fizycznego zniesienie bólu psychiczne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AAE6-6FAD-4108-B89B-55A5AD163184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Samookaleczenia – mechaniz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wyrzut hormonu – endorfina -  do krw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często brak odczuwania bólu w trakcie wyrządzania sobie krzywdy (po ok. 2 h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oprawa samopoczuci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niesienie napięci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8DD9-E4FB-4C85-A697-CA5B989DD08C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Mechanizm  uzależnienia od samookaleczania je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orównywalny jak w przypadku narkotyków cz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eksu. Uzależnienie od  przyjemności, ulgi, eufori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a początku okaleczanie jest boles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 czasem przykre staje się tylko pierwsze nacięc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ojawia się wszechogarniająca ulga, zaspokojen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Koszty samouszkodzeń są niski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5A04-3316-41EB-8B19-67C41190643E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1981080" y="1197000"/>
            <a:ext cx="746784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entury Schoolbook"/>
              </a:rPr>
              <a:t>(Magd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entury Schoolbook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Century Schoolbook"/>
              </a:rPr>
              <a:t>Miałam rozedrgane emocje i nie potrafiłam nad tym zapanować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entury Schoolbook"/>
              </a:rPr>
              <a:t>Odkryłam coś, co mogłam mieć pod kontrolą – ból fizyczny”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entury Schoolbook"/>
              </a:rPr>
              <a:t>(Kasi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entury Schoolbook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Century Schoolbook"/>
              </a:rPr>
              <a:t>Gdy wpadałam w dołek, zaczynałam się ciąć. To zastępował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entury Schoolbook"/>
              </a:rPr>
              <a:t>mi płacz. Potem czułam się lepiej”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entury Schoolbook"/>
              </a:rPr>
              <a:t>(Tomek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entury Schoolbook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Century Schoolbook"/>
              </a:rPr>
              <a:t>Kiedy się ciołem krzyczałem w milczeniu”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entury Schoolbook"/>
              </a:rPr>
              <a:t>(Asi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entury Schoolbook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Century Schoolbook"/>
              </a:rPr>
              <a:t>Nikt wcześniej nie chciał usłyszeć jak wyłam z rozpaczy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entury Schoolbook"/>
              </a:rPr>
              <a:t>musieli zobaczyć ten krzyk”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entury Schoolbook"/>
              </a:rPr>
              <a:t>(Dominik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entury Schoolbook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Century Schoolbook"/>
              </a:rPr>
              <a:t>Mówili na mnie sznyciara”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78AC-E915-4D98-98A3-243680C55877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Autoagresja – podłoż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uraz z dzieciństwa 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wszystko</a:t>
            </a: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co prowadzi 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aburzeń w sferze emocjonalnej i w konsekwencj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do autoagresji, jak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bicie, poniżanie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ilna kontrola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admierna presja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adopiekuńczość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odrzucenie, zaniedbanie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trudna sytuacja ekonomiczna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bezrobocie, problemy alkoholow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CC27-8668-421B-A669-13981BFDFDB8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Inne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w chorobach psychicznych 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(np. depresja, schizofrenia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związane z chorobam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spcBef>
                <a:spcPts val="524"/>
              </a:spcBef>
              <a:buClr>
                <a:srgbClr val="4f81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Century Schoolbook"/>
              </a:rPr>
              <a:t>wrodzonymi </a:t>
            </a:r>
            <a:r>
              <a:rPr b="0" lang="pl-PL" sz="2100" spc="-1" strike="noStrike">
                <a:solidFill>
                  <a:srgbClr val="000000"/>
                </a:solidFill>
                <a:latin typeface="Century Schoolbook"/>
              </a:rPr>
              <a:t>(np. autyzm)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spcBef>
                <a:spcPts val="524"/>
              </a:spcBef>
              <a:buClr>
                <a:srgbClr val="4f81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Century Schoolbook"/>
              </a:rPr>
              <a:t>nabytymi </a:t>
            </a:r>
            <a:r>
              <a:rPr b="0" lang="pl-PL" sz="2100" spc="-1" strike="noStrike">
                <a:solidFill>
                  <a:srgbClr val="000000"/>
                </a:solidFill>
                <a:latin typeface="Century Schoolbook"/>
              </a:rPr>
              <a:t>(np. chroniczne zapalenie mózgu, uszkodzenia mózgu przez szkodliwe substancje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4B6C-EBB8-4EBA-9CA9-96241419E628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1981080" y="1600200"/>
            <a:ext cx="8002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Autoagresja pojawia się najczęściej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w rodzinach przemocowych - przemoc fizyczna, psychiczna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w rodzinach, które nie zapewniają dostatecznej opieki i wsparcia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w zmaganiach się z własną seksualnością, płciowości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w doświadczaniu przemocy ze strony rówieśników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w sytuacjach niemożności sprostania wymaganiom (szkoła, dom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B55B-A940-44D7-AE36-B0F88E039A03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Schematy działan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Działania najczęściej w ukryci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Działania pod wpływem grup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Działania w grupie grupy, w której poszukuje się akceptacj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W niektórych zaburzeniach psychicznych, np. osobowości typu borderl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Osoby nie potrafiące kontrolować swojej agresj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19C6-DE61-4438-8738-A341C130DF85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Autoagresja – funkc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odzwierciedlenie psychicznego bólu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Osoba mająca tendencje autodestrukcyjne cierp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aprawdę i rana na ciele jest pokazaniem tego ból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a zewnątrz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zwiększenie poczucia autonomii i kontrol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rzekonanie o braku wpływu na swoje problem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oprzez samookaleczanie daje poczucie panowani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ad swoją fizyczności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63F4-54DC-42E1-B136-119FD4882A53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okazja do zaopiekowania się sobą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adawanie sobie ran uprawnia do manifestowania potrzeby opiek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uzewnętrznienie traum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ajczęściej doświadczonej w przeszłości przemocy –droga wyrażenia problemu na zewnątrz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chęć ukarania siebie same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oczucie winy (często występuje w depresji lub np. po molestowaniu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forma komunikacji z otoczeniem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wołanie o pomo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6A8F-D963-4BAD-831F-FDE04D9B2394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entury Schoolbook"/>
              </a:rPr>
              <a:t>Zachowania autodestrukcyjne młodzież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Schoolbook"/>
              </a:rPr>
              <a:t>Budzą grozę rodziców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Schoolbook"/>
              </a:rPr>
              <a:t>Zbijają z tropu pedagogów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Schoolbook"/>
              </a:rPr>
              <a:t>Są wyzwaniem dla psychologów i  lekarz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1E55-6A4A-4673-9B6D-52BA90931446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reakcja na st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kuteczna strategia na niwelowanie stresu i przyniesienie natychmiastowej ulg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UWAGA 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osoby autoagresywne mają znacznie niższy pró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tresu, który uniemożliwia im wykorzystywan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trategii radzenia sobie za pomocą met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koncentrowanych na zadaniu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(skupiają się na emocjach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15FE-09C7-4790-9B0D-C457CED6D13B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Zagrożenia związane z autoagresją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wzrost ryzyka samobójstwa dokonane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ryzyko uzależnienia - utrwalenie u nastolatka destrukcyjnej strategii radzenia sobie z trudnościam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ryzyko zakażen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trwałe ślady po uszkodzeniach ciał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zpecące bliz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FFBF-C60E-4B55-8C19-60D8673C4D3C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981080" y="1341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Uwaga !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Łatwo ukryć ślad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Łatwy, internetowy dostęp do opisu technik -Jak się ciąć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entury Schoolbook"/>
              </a:rPr>
              <a:t>( „Co w tym lubisz? Ból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entury Schoolbook"/>
              </a:rPr>
              <a:t>Co on Ci daje? Czuję wtedy jak wyładowuję wszystkie moj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entury Schoolbook"/>
              </a:rPr>
              <a:t>emocje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entury Schoolbook"/>
              </a:rPr>
              <a:t>W jakim sensie? Przechodzi to cierpienie. Jest ulga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entury Schoolbook"/>
              </a:rPr>
              <a:t>Który moment jest przyjemny? Początki są takie, że przykładam ostrze i nie mogę... ale jak już się przemogę, to robię to wiele razy. Zapominam o bólu, i jest ulga”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D775-2053-4B19-98C5-EAAB92BBB0D1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Autoagresja -   sygnały ostrzegawcze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aobserwowanie śladów na ciele, niewiadomego pochodzeni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miana sposobu ubierania się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akładanie odzieży nieadekwatnej do pogody np. długi rękaw przy słonecznej  pogodzi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Unikanie odsłaniania ciała niezależnie od okoliczności  (np.  na lekcji w-f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iechęć lub stanowcza odmowa badań lekarskich, mimo   wyraźnej potrzeb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13E6-F766-4F16-80D8-5A3085628AFB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1126800" y="1341360"/>
            <a:ext cx="9505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entury Schoolbook"/>
              </a:rPr>
              <a:t>Musisz wiedzieć o samouszkodzeniach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Century Schoolbook"/>
              </a:rPr>
              <a:t>Nie świadczą o chorobie psychicznej ale o dość skrajnej, subiektywnie  ocenianej, niemożności radzenia sobie z własnymi emocjami związanymi z intensywnym przeżywaniem trudności /traumy/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entury Schoolbook"/>
              </a:rPr>
              <a:t> „</a:t>
            </a:r>
            <a:r>
              <a:rPr b="0" lang="pl-PL" sz="2200" spc="-1" strike="noStrike">
                <a:solidFill>
                  <a:srgbClr val="000000"/>
                </a:solidFill>
                <a:latin typeface="Century Schoolbook"/>
              </a:rPr>
              <a:t>Przytomny dorosły”, powinien  zauważyć symptomy samouszkodzeń,  przyjąć je jako poważną informację, o tym, że młody człowiek dokonuje autoagresji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entury Schoolbook"/>
              </a:rPr>
              <a:t>Przyjąć założenie, że nie ponosi odpowiedzialności za zachowania autoagresywne, ale  po ich stwierdzeniu, nie powinien lekceważyć ich  przejawów, zazwyczaj są one symptomem przeżywania poważnych problemów przez nastolatka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entury Schoolbook"/>
              </a:rPr>
              <a:t>Podejmować działania mające na celu chronienie młodej osoby przed dalszymi próbami samouszkadzania się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BF44-DD89-4A7E-BDB1-DD6DFC322E93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Autoagresja  jak pomóc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! Nie krytykuj  i nie krzycz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! Nie mów, że autoagresja jest wyrazem słaboś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(Przeciwnie – jest elementem walki o siebi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! Nie karz (Kara może doprowadzić 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kuteczniejszego maskowania samouszkodzeń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!Nie obwiniaj  (ani siebie, ani dzieck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!Udziel wsparcia (bądź gotowy do rozmowy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! Dziel się emocjami, które przeżywasz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! Poszukaj profesjonalnej pomocy psychologa lub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sychiat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82DA-1D65-41B3-BF37-3B94090263B8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! Zapewnij środki medyczne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! Upewnij się, że potrafi  samodzielnie się opatrzyć w higienicznych warunkach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! Bądź cierpliwy (zastąpienie destrukcyjnyc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trategii nowymi, wymaga   dużo czasu 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ystematycznego wsparci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! AKCEPTUJ (KOCHAJ)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bez względu na wszystk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EE7B-A2AF-4A25-8E18-FA36CFEF48F6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Autoagresja – profilakty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oszerzanie świadomości na temat przyczyn,  konsekwencji i metod leczenia autoagresj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kształtowanie pozytywnego obrazu siebi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achęcanie do rozbudowywania sieci społecznych,     które mogą stanowić źródło wsparcia w kryzysi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ystematyczna praca nad budowaniem konstruktywnych   strategii radzenia sobie ze stresem, aby nie doprowadzać   do kumulowania się napię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C4D2-D788-4B23-887C-9C63D5143A20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entury Schoolbook"/>
              </a:rPr>
              <a:t>Zachowania suicydalne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entury Schoolbook"/>
              </a:rPr>
              <a:t>SAMOBÓJSTWA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7CE5-C8D6-48D2-AA3D-6DDDFE338F78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Zachowania samobójcz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widoczne (sygnały ostrzegawcze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iewidoczne (myśli i zachowani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1B99-CC91-44E4-96A9-F6D824315E56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127160" y="1600200"/>
            <a:ext cx="9361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U części samookaleczających się osób, sam akt jest osobliwą formą zwrócenia na siebie uwagi albo wołania o pomoc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asila się liczba  stwierdzonych samouszkodzeń w szkołach. Rozpowszechnienie wśród młodzieży 4% (wg A.Gmitrowicz):  21% w populacji klinicznej. Dziewczęta i kobiety  3-krotnie częściej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Lekarze, tłumacząc wzrost liczy samookaleczeń, wskazują na większą podatność młodzieży na zaburzenia psychiczne. Nastolatki nie radzą sobie z presją i własnymi problemam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Amerykańscy lekarze stwierdzają: 15 do 22 % osób w okresie dorastania rozmyślnie zraniło się lub zadało sobie ból co najmniej raz w życiu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CB1F-4DF1-4098-A484-FA4F86871278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1981080" y="1268280"/>
            <a:ext cx="746784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Sygnały ostrzegawcz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Izolacja społeczn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diagnozowana depresj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ainteresowanie śmiercią (strony internetowe, rozmowy,   rysunki, wiersze, blogi, opowiadania itp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miany osobowości („dziecko nie do poznania”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miany nastroju (znaczne obniżenie lub znaczne wahania nastroju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Trudności szkolne – obniżenie jakości pracy, słabsze oceny, problemy z koncentracj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Brak dbałości o wygląd zewnętrz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1E08-DB79-4AA8-85A3-AB3A19CCBF72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Używanie alkoholu i/lub innych używe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mutek, rozpacz, zrezygnowanie, obojętność,     rozdrażnienie, złość i irytacj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większona trudność w kontrolowaniu emocj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nacząca zmiana rytmu dobowe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aburzenia snu i jedzen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Utrata zainteresowań, niechęć do rozrywe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Częste skargi dotyczące złego samopoczu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fizycznego   bez wyraźnej przyczyny somatycznej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(ciągłe zmęczenie, bóle   głowy, brzucha, znudzeni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Rozmawianie o samobójstwie lub jego planowan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DAE7-DC9C-42AA-98FB-494F7C92EB3C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Wzrost impulsywności, zachowania agresywne,     stosowanie przemoc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Ucieczki z domu, częste wagary, zachowania             buntownicz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Odrzucanie pomocy - „nikt nie może mi pomóc”, „nic się     już nie da zrobić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Oskarżanie się, poczucie winy - „zasłużyłem sobie na to”, „sama chciałam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Odrzucanie komplementów, pochwał i nagró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EE0E-AFFB-436F-8ED8-C244A3C36435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Komunikaty dotyczące własnej bezwartościowości - </a:t>
            </a:r>
            <a:r>
              <a:rPr b="0" i="1" lang="pl-PL" sz="2400" spc="-1" strike="noStrike">
                <a:solidFill>
                  <a:srgbClr val="000000"/>
                </a:solidFill>
                <a:latin typeface="Century Schoolbook"/>
              </a:rPr>
              <a:t>„do niczego się nie nadaję”, „mogłoby mi się coś przydarzyć”, „lepiej by było, gdybym się w ogóle nie urodziła”,„wszystko jest bez sensu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Rozdawanie innym swoich rzeczy, zwierzątek     („oddawanie ich w dobre ręce”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porządzanie testamentów, listów i wiadomości      pożegnalnych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Ślady po samouszkodzeniach – rany, blizny, opatrunk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EEFD-C637-4FF8-B19E-4EF364AE415C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kala depresji Bec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oziom depresji obliczany jest z uzyskanej po zsumowaniu liczby punktów. Istnieją różne normy, jednak ogólnie przyjmuje się następującą punktację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0-10 pkt – brak depresji lub obniżenie nastroju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11-27 – depresja umiarkowana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28 i więcej – depresja ciężk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BDE7-8902-47D4-A3C6-7E9B698F86C6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UWAGA!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ygnały ostrzegawcze  mogą być  niespecyficzne łatwo je przeoczyć lub zbagatelizować, przypisując je „wiekowi rozwojowemu”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Dla niektórych z nich trudno jednak znaleźć inne wytłumaczenie niż skłonności samobójcz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E437-BF56-45E6-8C4D-41DA6CFA1C88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1919160" y="1412640"/>
            <a:ext cx="7467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Czynniki ryzyka ze strony rodziny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Schoolbook"/>
              </a:rPr>
              <a:t>przewlekła wrogość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Schoolbook"/>
              </a:rPr>
              <a:t>brak poczucia bezpieczeństwa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Schoolbook"/>
              </a:rPr>
              <a:t>zachowania aspołeczne wśród członków rodzin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Schoolbook"/>
              </a:rPr>
              <a:t>trudności ekonomiczn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Schoolbook"/>
              </a:rPr>
              <a:t>nadużywanie alkoholu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Schoolbook"/>
              </a:rPr>
              <a:t>problemy małżeński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Schoolbook"/>
              </a:rPr>
              <a:t>aktywne konflikty rodzic-dziecko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Schoolbook"/>
              </a:rPr>
              <a:t>izolacja społeczna rodziny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Schoolbook"/>
              </a:rPr>
              <a:t>przewlekłe konflikty i kłótni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Schoolbook"/>
              </a:rPr>
              <a:t>częste zmiany miejsca zamieszkania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Schoolbook"/>
              </a:rPr>
              <a:t>utrata rodzica (opuszczenie rozwód, separacj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Schoolbook"/>
              </a:rPr>
              <a:t>rodzic okazujący fizyczny i/lub emocjonalny dystans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31FB-6931-4F30-AE78-A92E9612B5A8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Grupy ryzyka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, dzieci i młodzież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 zaburzeniami depresyjnymi   u których nie stwierdzono depresji, ale występują objawy     depresyjne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leczone psychiatrycznie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używające i nadużywające substancji psychoaktywnych  (alkohol, narkotyki, dopalacze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dokonujące samouszkodzeń    z tendencjami autodestrukcyjnymi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których członek rodziny lub przyjaciel/kolega popełnił     samobójstwo lub ma/miał myśli samobójcz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6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E272-BFF0-44A6-8734-B5FBAECC1D35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1980720" y="1600200"/>
            <a:ext cx="7931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Typologia ryzyka samobójstw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Ryzyko nagłe (&lt;48 h) – pojawiają się konkretne myśli i skłonności samobójcze, dziecko chce się zabić, ma plan popełnienia samobójstwa, posiada dostęp do środków letalnych, emocje i uczucia wskazują na ryzyko próby samobójczej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Ryzyko bliskie (dni, tygodnie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Ryzyko długoterminowe – myśli samobójcze  bez planów, pojawiają się objawy  depresyj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836B-B26B-4C4E-B9D6-56CE5B179526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1919160" y="1557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Właściwe reakcj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ie opuszczaj dzieck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igdy nie obiecuj,  że zachowasz w tajemnicy informację o planach samobójczyc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Wytłumacz  dziecku, że musisz poinformować rodziców/ opiekunów prawnych albo pedagoga/ psychologa szkolnego, aby mogło otrzymać odpowiednią pomo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0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B39C-7F95-44FD-A0D4-66C358EF4483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271520" y="1428840"/>
            <a:ext cx="9072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Autodestruktywnoś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Każde dobrowolne zachowanie, podejmowane mniej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lub bardziej świadomie i intencjonalnie, któ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twarza zagrożenie dla zdrowia i/lub życia osob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(A. Suchańsk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entury Schoolbook"/>
              </a:rPr>
              <a:t>Pośrednie</a:t>
            </a:r>
            <a:r>
              <a:rPr b="0" lang="pl-PL" sz="2000" spc="-1" strike="noStrike">
                <a:solidFill>
                  <a:srgbClr val="000000"/>
                </a:solidFill>
                <a:latin typeface="Century Schoolbook"/>
              </a:rPr>
              <a:t> – związek ze szkodliwym zachowaniem jest zwykle odległy w czasie i nieoczywisty dla jednostki – to „cena”, „efekt uboczny” danego zachowania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entury Schoolbook"/>
              </a:rPr>
              <a:t>Bezpośrednie</a:t>
            </a:r>
            <a:r>
              <a:rPr b="0" lang="pl-PL" sz="2000" spc="-1" strike="noStrike">
                <a:solidFill>
                  <a:srgbClr val="000000"/>
                </a:solidFill>
                <a:latin typeface="Century Schoolbook"/>
              </a:rPr>
              <a:t> – atak na zdrowie, ciało, o oczywistym związku i małym odstępie czasowym zachowania i skutku samouszkodzenia, samobójstwa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F693-261B-4D31-B29C-C58F42022169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ie podpytuj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ie rozsiewaj plotek itp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ie oczekuj współprac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ie panikuj!  Jeśli czujesz, że nie wiesz, co zrobić w tej sytuacji, zanim zareagujesz skonsultuj się ze specjalist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Jeżeli twoim zdaniem życie i zdrowie dziecka jest zagrożone,    nie wahaj się zawiadomić pogotowie ratunkowe i/lub policję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Nigdy nie ignoruj i nie bagatelizuj sygnałów ostrzegawczych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02A9-C615-4835-9B74-DC5B771B7FED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Konieczność hospitalizacj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lan i/lub przygotowane środki do popełnienia samobójstwa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tan bezpośrednio po próbie samobójczej lub przerwana próba     samobójcza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obecność myśli samobójczych i zachowania impulsywne,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anika i pobudzenie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myśli samobójcze i zmieniony stan psychiczny dziecka     spowodowany zażyciem substancji psychoaktywnych (intoksykacj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4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B24E-9D70-4C9F-A655-6290D2C1CB04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1980720" y="1600200"/>
            <a:ext cx="8651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Konsultacja psychiatrycz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obecność myśli samobójczych i brak wsparcia społecznego, rodzi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brak stabilnej sytuacji życiowej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obecność myśli samobójczych i brak współpracy ze strony dziecka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obecność myśli samobójczych i zły stan zdrowia (ostre choroby neurologiczne, choroby nowotworowe itp.)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aprzeczanie przez dziecko myślom i skłonnościom       samobójczym, podczas gdy dokonana ocena ryzyka       wskazuje na wysokie ryzyko próby samobójczej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A5D9-97D3-4973-86FE-4E8AA585A4B4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entury Schoolbook"/>
              </a:rPr>
              <a:t>ZABURZENIA ODŻYWIANIA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entury Schoolbook"/>
              </a:rPr>
              <a:t>Obsesja i chorobliwa koncentracja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entury Schoolbook"/>
              </a:rPr>
              <a:t>na punkcie jedzeni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entury Schoolbook"/>
              </a:rPr>
              <a:t>i jakości zdrowotnej żywnośc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8318-30AC-4DD4-82D2-BF723CBEEB3E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0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A5B7-4245-4983-A718-61C6455EC271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2867040" y="1444680"/>
          <a:ext cx="6095880" cy="4572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4575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DBIÓR SPOŁECZ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SOBA Z NADWAG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SOBA SZCZUPŁ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eatrakcyj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trakcyj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o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ieszy się dobrym zdrowi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aniedb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ba o sieb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e posiada silnej woli w zrzuceniu nadwag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iada silną wol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2124000" y="2195640"/>
          <a:ext cx="208080" cy="3650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Zakresy wartości BM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37609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&lt; 16,0 – wygłodzen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37609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16,0–16,99  – wychudzenie (spowodowane często przez ciężką chorobę lub anoreksją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37609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17,0–18,49 – niedowag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37609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Century Schoolbook"/>
              </a:rPr>
              <a:t>18,5–24,99 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– wartość prawidłow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37609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25,0–29,99 – nadwag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37609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30,0–34,99 – I stopień otyłoś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37609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35,0–39,99 – II stopień otyłości (otyłość kliniczn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37609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≥ 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40,0  – III stopień otyłości (otyłość skrajna, patologiczn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E359-20A0-470A-837A-9F66BAB4CCAB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1980720" y="1600200"/>
            <a:ext cx="8075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W zaburzenia odżywiani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lanowanie jadłospisu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częste zakupy ekologicznych artykułów spożywczych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kontrola diety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krupulatne ważenie i mierzenie przygotowywanych porcj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wypełniają  myśli osób, które w konsekwencji  tracą kontrolę nad  swoimi zachowaniami, doprowadzając do poważnych w konsekwencji uzależnień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C843-632D-460F-BBF0-6075F211E48E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1980720" y="1600200"/>
            <a:ext cx="8363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Anoreksja (</a:t>
            </a:r>
            <a:r>
              <a:rPr b="0" i="1" lang="pl-PL" sz="2400" spc="-1" strike="noStrike">
                <a:solidFill>
                  <a:srgbClr val="000000"/>
                </a:solidFill>
                <a:latin typeface="Century Schoolbook"/>
              </a:rPr>
              <a:t>anorexia nervosa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ochodzi z greckich słów: </a:t>
            </a:r>
            <a:r>
              <a:rPr b="0" i="1" lang="pl-PL" sz="2400" spc="-1" strike="noStrike">
                <a:solidFill>
                  <a:srgbClr val="000000"/>
                </a:solidFill>
                <a:latin typeface="Century Schoolbook"/>
              </a:rPr>
              <a:t>an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 - brak i </a:t>
            </a:r>
            <a:r>
              <a:rPr b="0" i="1" lang="pl-PL" sz="2400" spc="-1" strike="noStrike">
                <a:solidFill>
                  <a:srgbClr val="000000"/>
                </a:solidFill>
                <a:latin typeface="Century Schoolbook"/>
              </a:rPr>
              <a:t>orexis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 – apety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aburzenie to polega na podejmowaniu licznych celowych działań prowadzących do redukcji masy ciała, a następnie utrzymaniu osiągniętej małej masy  przez osobę chorą, przy czym masa ciała wynosi poniżej  wskaźnika  (</a:t>
            </a:r>
            <a:r>
              <a:rPr b="0" i="1" lang="pl-PL" sz="2400" spc="-1" strike="noStrike">
                <a:solidFill>
                  <a:srgbClr val="000000"/>
                </a:solidFill>
                <a:latin typeface="Century Schoolbook"/>
              </a:rPr>
              <a:t>body mass index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 – BMI), który jest równy lub spada poniżej </a:t>
            </a: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17,5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D7ED-EB12-4CA9-9696-CF31FF51C959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1271160" y="1411200"/>
            <a:ext cx="8939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Anoreksja występuje ok. 10 razy częściej u kobiet niż  u mężczyz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W populacji ogólnej waha się w zakresie kilku procen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Choroba zazwyczaj rozpoczyna się u młodych dziewcząt w okresie pokwitania lub u młodych kobiet, najczęściej między 14 a 18 rokiem życi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oczątek anoreksji jest zazwyczaj powolny. Im choroba trwa dłużej, tym intensywność odchudzania zwiększa się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 czasem chore przestają odczuwać głód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0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6AFD-63FA-4D18-83A8-71E06983E618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Przyczyny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76092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awód miłos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76092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rozwód rodziców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76092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emocjonalne oddalenie od siebie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76092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iski  poziom ujawnianych uczuć w rodzin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76092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iski poziom samoocen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76092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rozbudzenie  nadmiernych ambicji u dziecka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76092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akłanianie (głównie przez matki i babcie) do zwiększenia ilości jedzen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D63B-3BFD-488D-8A91-FE3EAC7F0193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Autodestruktywnoś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dążenie do wyrządzenia sobie natychmiastowej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zkody cielesnej, ale bez zamiaru samobójczeg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amiana bólu psychicznego na ból fizyczn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59D0-650B-4107-B262-C050AA405E57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Objawy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buClr>
                <a:srgbClr val="000000"/>
              </a:buClr>
              <a:buSzPct val="70000"/>
              <a:buFont typeface="Century Schoolbook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Spadek masy ciała nawet poniżej 30 kg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raz większe ograniczenia w przyjmowaniu pokarmów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zagłuszanie odczuwanego głodu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66840" algn="just"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wiele zajęć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66840" algn="just"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intensywna nauk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66840" algn="just"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wiele godzin ćwiczeń fizycznych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543D-841A-451B-AAC6-F973AEA7F5E4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1980720" y="1600200"/>
            <a:ext cx="8218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II. </a:t>
            </a: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Silny lęk przed przytyciem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walka z każdym kęsem pokarm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dzielenie kęsów  na częś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pożywane posiłków  w samotnoś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III. </a:t>
            </a: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Ustanie cyklów miesiączkowych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powodowane jest procesem zanikowym jajników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oraz nieprawidłowościami w funkcjonowaniu układu podwzgórzowo-przysadkoweg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entury Schoolbook"/>
              </a:rPr>
              <a:t>Osoby cierpiące na anoreksję potrafią prawidłowo ocenić masę i kształt ciała innych, zwłaszcza innych chorych. W stosunku do siebie samych, mimo czasem drastycznego wychudzenia, mają silne poczucie bycia zbyt grub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D245-72F1-48E3-9387-943E53581661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Skutki zdrowotne – biologiczn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aburzenia rytmu serca, spadek tętna nawet do 40 uderzeń na minutę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odwodnienie, zaburzenie pracy nerek, obecność acetonu w moczu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padek poziomu potasu, który ma wpływ na pracę serca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osłabienie, obniżenie ciśnienia krwi i skłonność do omdleń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25D9-60F5-4C92-9989-1D3562A981EF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imne i drętwiejące ręce i stopy, stałe uczucie zimna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aburzenia snu – bezsenność w nocy, senność w dzień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awroty i bóle głowy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osteoporoza prowadząca do złamań, najczęściej kończyn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delikatny meszek pokrywający ciało, chroniący przed utratą ciepła na skutek zmniejszenia warstwy tkanki tłuszczowej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B3EC-2532-474E-A386-992A459BF01B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Skutki zdrowotne – psychospołeczn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ilny lęk przed utratą kontroli nad jedzeniem, a przez to nad własnym życiem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często depresja i związany z nią lęk, smutek, poczucie beznadziejności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darzają się próby samobójcze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ograniczenie, a w końcu zerwanie kontaktów z otoczeniem (przyjaciele, znajomi)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2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5CAD-C381-4730-932D-2109955942A7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Bulimia (bulimia nervosa) (żarłoczność psychiczn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Bulimia termin został wprowadzony przez Galena i pochodzi od greckich słów </a:t>
            </a: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bous i limos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, które oznaczają „byczy głód”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Bulimię stwierdza się przede wszystkim u nastolatek i młodych kobiet. Początek zachorowania występuje zazwyczaj później niż u pacjentów z anoreksją, około 18.–24. roku życi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9CB7-7982-4737-A00A-FD685DBF8C00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1981080" y="9810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entury Schoolbook"/>
              </a:rPr>
              <a:t>Mechanizm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tosowanie diet restrykcyjnych, odchudzających w celu osiągnięcia pożądanej masy ciał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często konsekwencja nie leczonej anoreksj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gwałtowne ataki łaknien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admierne objadanie się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oczyszczenie organizmu (prowokacja wymiotów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ulga na sumieniu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6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169F-8EDF-4064-8C28-FC01C964B8F9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załka w dół 3"/>
          <p:cNvSpPr/>
          <p:nvPr/>
        </p:nvSpPr>
        <p:spPr>
          <a:xfrm>
            <a:off x="5519880" y="2421000"/>
            <a:ext cx="341280" cy="4316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trzałka w dół 4"/>
          <p:cNvSpPr/>
          <p:nvPr/>
        </p:nvSpPr>
        <p:spPr>
          <a:xfrm>
            <a:off x="5519880" y="3213000"/>
            <a:ext cx="341280" cy="43344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trzałka w dół 5"/>
          <p:cNvSpPr/>
          <p:nvPr/>
        </p:nvSpPr>
        <p:spPr>
          <a:xfrm>
            <a:off x="5519880" y="4110120"/>
            <a:ext cx="341280" cy="4316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załka w dół 6"/>
          <p:cNvSpPr/>
          <p:nvPr/>
        </p:nvSpPr>
        <p:spPr>
          <a:xfrm>
            <a:off x="5519880" y="4991040"/>
            <a:ext cx="341280" cy="4320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trzałka w dół 7"/>
          <p:cNvSpPr/>
          <p:nvPr/>
        </p:nvSpPr>
        <p:spPr>
          <a:xfrm>
            <a:off x="5519880" y="5870520"/>
            <a:ext cx="341280" cy="4320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1774800" y="1125000"/>
            <a:ext cx="86407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000000"/>
                </a:solidFill>
                <a:latin typeface="Century Schoolbook"/>
              </a:rPr>
              <a:t>Skutki zdrowotne – biologiczne: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just">
              <a:spcBef>
                <a:spcPts val="601"/>
              </a:spcBef>
              <a:buClr>
                <a:srgbClr val="376092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Century Schoolbook"/>
              </a:rPr>
              <a:t>zaburzenia żołądkowo-jelitowe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just">
              <a:spcBef>
                <a:spcPts val="601"/>
              </a:spcBef>
              <a:buClr>
                <a:srgbClr val="376092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Century Schoolbook"/>
              </a:rPr>
              <a:t>refluks żołądkowo- przełykowy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just">
              <a:spcBef>
                <a:spcPts val="601"/>
              </a:spcBef>
              <a:buClr>
                <a:srgbClr val="376092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Century Schoolbook"/>
              </a:rPr>
              <a:t>dyskomfort w jamie brzusznej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just">
              <a:spcBef>
                <a:spcPts val="601"/>
              </a:spcBef>
              <a:buClr>
                <a:srgbClr val="376092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Century Schoolbook"/>
              </a:rPr>
              <a:t>zaburzenia równowagi elektrolitycznej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just">
              <a:spcBef>
                <a:spcPts val="601"/>
              </a:spcBef>
              <a:buClr>
                <a:srgbClr val="376092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Century Schoolbook"/>
              </a:rPr>
              <a:t>uszkodzenie szkliwa zębów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just">
              <a:spcBef>
                <a:spcPts val="601"/>
              </a:spcBef>
              <a:buClr>
                <a:srgbClr val="376092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Century Schoolbook"/>
              </a:rPr>
              <a:t>uszkodzenie naczynek krwionośnych w oczach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just">
              <a:spcBef>
                <a:spcPts val="601"/>
              </a:spcBef>
              <a:buClr>
                <a:srgbClr val="376092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Century Schoolbook"/>
              </a:rPr>
              <a:t>opuchlizna twarzy  i policzków (zapalenia ślinianek)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just">
              <a:spcBef>
                <a:spcPts val="601"/>
              </a:spcBef>
              <a:buClr>
                <a:srgbClr val="376092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Century Schoolbook"/>
              </a:rPr>
              <a:t>awitaminoza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just">
              <a:spcBef>
                <a:spcPts val="601"/>
              </a:spcBef>
              <a:buClr>
                <a:srgbClr val="376092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Century Schoolbook"/>
              </a:rPr>
              <a:t>rozciągnięcie żołądka do znacznych rozmiarów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just">
              <a:spcBef>
                <a:spcPts val="601"/>
              </a:spcBef>
              <a:buClr>
                <a:srgbClr val="376092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Century Schoolbook"/>
              </a:rPr>
              <a:t>zmęczenie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just">
              <a:spcBef>
                <a:spcPts val="601"/>
              </a:spcBef>
              <a:buClr>
                <a:srgbClr val="376092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Century Schoolbook"/>
              </a:rPr>
              <a:t>zły nastrój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just">
              <a:spcBef>
                <a:spcPts val="601"/>
              </a:spcBef>
              <a:buClr>
                <a:srgbClr val="376092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Century Schoolbook"/>
              </a:rPr>
              <a:t>niepokój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3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C7D3-7930-4418-952D-B2ABD9120CA1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Skutki zdrowotne - psychospołecz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iechęć do samego sieb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tany depresyj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oczucie wstydu i upokorzen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sychiczne uzależnienie  od środków przeczyszczających i odwadniającyc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5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E1BD-235C-44FE-AF23-273851706D46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Postępowan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arówno w przypadku  bulimii jak i anoreksji nie istnieje uniwersalny model leczenia, który byłby skuteczny w każdym przypadku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37609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Anoreksja i bulimia są chorobami, które mają swoje konsekwencje biologiczne, psychiczne i społeczn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37609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Wymagają leczenia, często interdyscyplinarnego (psychiatra, psycholog, endokrynolog, dietetyk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7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95B5-8884-486C-B3D8-820F93AC08BD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Autodestruktywność – rodzaje, form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Wielkie - autokastracja, obcięcie kończy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tereotypowe - np. rytmiczne uderzanie głową do krw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Umiarkowa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kompulsywne 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– wielokrotne w ciągu dnia np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wyrywanie włosów, rozdrapywanie skóry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rzypalanie się, cięc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impulsywne 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– epizodyczne lub nawracają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łytkie nacinanie skóry, przypalanie, zadawan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sobie ciosów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4314-C071-410B-AE88-0046F0F7128D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entury Schoolbook"/>
              </a:rPr>
              <a:t>ORTOREKSJA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orthorexia nervos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ochodzi z języka greckieg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(orto-prawidłowy, dobry i oreksis-pożądanie, apety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Twórcą definicji ortoreksji jest Steven Bratma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Obsesja na punkcie zdrowego żywien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6139-C813-4D65-AEBC-D28509417958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1919160" y="13809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spcBef>
                <a:spcPts val="601"/>
              </a:spcBef>
              <a:buClr>
                <a:srgbClr val="376092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entury Schoolbook"/>
              </a:rPr>
              <a:t>Liczba osób cierpiących na  ortoreksję stale wzrast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179280" indent="-179280" algn="just">
              <a:spcBef>
                <a:spcPts val="601"/>
              </a:spcBef>
              <a:buClr>
                <a:srgbClr val="376092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entury Schoolbook"/>
              </a:rPr>
              <a:t>Najczęściej zapadają na nią dobrze sytuowane, wykształcone kobiety ok. 30 roku życi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179280" indent="-179280" algn="just">
              <a:spcBef>
                <a:spcPts val="601"/>
              </a:spcBef>
              <a:buClr>
                <a:srgbClr val="376092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entury Schoolbook"/>
              </a:rPr>
              <a:t>Schorzenie coraz częściej dotyczy również mężczyz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179280" indent="-179280" algn="just">
              <a:spcBef>
                <a:spcPts val="601"/>
              </a:spcBef>
              <a:buClr>
                <a:srgbClr val="376092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entury Schoolbook"/>
              </a:rPr>
              <a:t>Ortorektycy unikają spożywania określonych pokarmów i sposobów obróbki żywności uważając je za szkodliwe dla zdrowi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179280" indent="-179280" algn="just">
              <a:spcBef>
                <a:spcPts val="601"/>
              </a:spcBef>
              <a:buClr>
                <a:srgbClr val="376092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entury Schoolbook"/>
              </a:rPr>
              <a:t>Przygotowanie posiłków staje się bardzo czasochłonne i dosyć uciążliw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179280" indent="-179280" algn="just">
              <a:spcBef>
                <a:spcPts val="601"/>
              </a:spcBef>
              <a:buClr>
                <a:srgbClr val="376092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entury Schoolbook"/>
              </a:rPr>
              <a:t>Planowanie jadłospisu,  wybór ekologicznych produktów  spożywczych  staje się życiowym priorytetem, od którego ortorektyk  uzależnia swoje codzienne funkcjonowani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179280" indent="-179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179280" indent="-1792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1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645E-7EF0-496D-85C7-E897A910A2BE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Skutki zdrowotne – biologicz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mniejszenie masy ciał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anemia, osteopem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gwałtowny spadek odpornoś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wahania nastroj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atrzymanie miesiączk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3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38FB-8ECF-432D-A030-1904A9CE7CFF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Skutki zdrowotne - psychospołecz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izolacja społecz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obniżenie  poczucia własnej wartoś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częste wahania nastrojów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B631-54E7-4EE2-B204-07F85E8120A3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Postępowan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wywołanie u pacjenta zmiany sposobu myślenia o jedzeniu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zalecana suplementacja diety, aby wyrównać niedobory witamin i składników mineralnych, które powstały na skutek spożywania niepełnowartościowych posiłków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7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C4AB-80BD-4FD6-B66F-C2562B1B4860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Profilaktyka zaburzeń odżywian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Edukacja zdrowot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entury Schoolbook"/>
              </a:rPr>
              <a:t>przekazywanie i nabywanie wiedzy o zdrowiu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Century Schoolbook"/>
              </a:rPr>
              <a:t>postaw wobec zdrowia swojego i innych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Edukacja żywieniow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entury Schoolbook"/>
              </a:rPr>
              <a:t>przekazanie odpowiedniej wiedzy żywieniowej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entury Schoolbook"/>
              </a:rPr>
              <a:t>wykształcenie potrzeby jej stosowania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entury Schoolbook"/>
              </a:rPr>
              <a:t>zmiany niewłaściwych zachowań żywieniowych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5319-9C51-48D7-B0AA-C42ECE493DC2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1991880" y="1353960"/>
            <a:ext cx="8363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000000"/>
                </a:solidFill>
                <a:latin typeface="Century Schoolbook"/>
              </a:rPr>
              <a:t>Współpraca z rodzicami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Century Schoolbook"/>
              </a:rPr>
              <a:t>wymianę informacji o stanie zdrowia, jej postaw wobec odżywiania i własnego wyglądu, postępach w nauce, frekwencji w szkole,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Century Schoolbook"/>
              </a:rPr>
              <a:t>pomoc rodzicom w poszukiwaniu specjalisty zajmującego się leczeniem zaburzeń odżywiania, informowanie na temat placówek, które funkcjonują w miejscu zamieszkania chorej,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Century Schoolbook"/>
              </a:rPr>
              <a:t>pomoc rodzicom w zaakceptowaniu choroby dziecka, uświadomienie konieczności podjęcia specjalistycznego leczenia,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Century Schoolbook"/>
              </a:rPr>
              <a:t>nauczenie ich właściwych sposobów postępowania z dzieckiem chorującym  na anoreksję/bulimię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1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D54C-2C49-44D8-96F0-C387CDAA35F6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1980720" y="1600200"/>
            <a:ext cx="8075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Kampanie społecz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organizacja wykładów na temat zaburzeń odżywian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rojektowanie i realizowanie programów profilaktycznych obejmujących zagadnienia zdrowego stylu życia i odżywiania (stosownie do wieku i potrzeb organizmu)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kształtowanie pozytywnej samooceny, nabywania dystansu do lansowanych przez mass media kanonów mody i urod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1E10-4BA5-49D5-9D13-EE13B39FC3F8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rostokąt 11"/>
          <p:cNvSpPr/>
          <p:nvPr/>
        </p:nvSpPr>
        <p:spPr>
          <a:xfrm>
            <a:off x="3648240" y="5589720"/>
            <a:ext cx="683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Projekt pn. „Dla rodziny” - doskonalenie zawodowe kadr systemu wspierania rodziny i pieczy zastępczej jest współfinansowany przez Unię Europejską ze środków Europejskiego Funduszu Społecznego w ramach Programu Operacyjnego Wiedza Edukacja Rozwój na lata 2014-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rostokąt 6"/>
          <p:cNvSpPr/>
          <p:nvPr/>
        </p:nvSpPr>
        <p:spPr>
          <a:xfrm>
            <a:off x="3935520" y="2703600"/>
            <a:ext cx="264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rostokąt 13"/>
          <p:cNvSpPr/>
          <p:nvPr/>
        </p:nvSpPr>
        <p:spPr>
          <a:xfrm>
            <a:off x="6581880" y="276876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ytuł 1"/>
          <p:cNvSpPr/>
          <p:nvPr/>
        </p:nvSpPr>
        <p:spPr>
          <a:xfrm>
            <a:off x="3459240" y="3500280"/>
            <a:ext cx="6764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ww.sosdlarodziny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ymbol zastępczy numeru slajdu 3"/>
          <p:cNvSpPr/>
          <p:nvPr/>
        </p:nvSpPr>
        <p:spPr>
          <a:xfrm>
            <a:off x="1847880" y="4929120"/>
            <a:ext cx="812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EA32-A7CB-4D8F-ADBF-7BFD6EC92B08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ole tekstowe 4"/>
          <p:cNvSpPr/>
          <p:nvPr/>
        </p:nvSpPr>
        <p:spPr>
          <a:xfrm>
            <a:off x="4079880" y="213372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  <a:ea typeface="Calibri"/>
              </a:rPr>
              <a:t>DZIĘKUJĘ ZA UWAGĘ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000000"/>
                </a:solidFill>
                <a:latin typeface="Century Schoolbook"/>
              </a:rPr>
              <a:t>???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D754-8738-4F06-9E6D-C6F576D08C5C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981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oczucie ulgi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Poczucie kontroli nad własnym ciałem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Forma karania siebie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Rozładowywanie gniew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Rozładowanie napię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Symbol zastępczy numeru slajdu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712D-D4E1-4017-8295-80FB3F337B51}" type="slidenum">
              <a:rPr b="1" lang="pl-PL" sz="1400" spc="-1" strike="noStrike">
                <a:solidFill>
                  <a:srgbClr val="ffffff"/>
                </a:solidFill>
                <a:latin typeface="Century School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1T07:02:49Z</dcterms:created>
  <dc:creator>Admin</dc:creator>
  <dc:description/>
  <dc:language>en-US</dc:language>
  <cp:lastModifiedBy>Małgorzata Stasiak</cp:lastModifiedBy>
  <dcterms:modified xsi:type="dcterms:W3CDTF">2020-11-04T08:45:40Z</dcterms:modified>
  <cp:revision>142</cp:revision>
  <dc:subject/>
  <dc:title>Prezentacja programu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>29;#Tarnowski Grzegorz</vt:lpwstr>
  </property>
  <property fmtid="{D5CDD505-2E9C-101B-9397-08002B2CF9AE}" pid="3" name="display_urn:schemas-microsoft-com:office:office#SharedWithUsers">
    <vt:lpwstr>Tarnowski Grzegorz</vt:lpwstr>
  </property>
</Properties>
</file>