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774360" y="882720"/>
            <a:ext cx="579924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34760" y="5513400"/>
            <a:ext cx="5879880" cy="52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1892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dt" idx="5"/>
          </p:nvPr>
        </p:nvSpPr>
        <p:spPr>
          <a:xfrm>
            <a:off x="4160520" y="0"/>
            <a:ext cx="31892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2019-10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6"/>
          </p:nvPr>
        </p:nvSpPr>
        <p:spPr>
          <a:xfrm>
            <a:off x="-360" y="11026440"/>
            <a:ext cx="318924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7"/>
          </p:nvPr>
        </p:nvSpPr>
        <p:spPr>
          <a:xfrm>
            <a:off x="4160520" y="11026440"/>
            <a:ext cx="318924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7F411-3BF7-412E-9A69-4B8A564833F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160880" y="11026800"/>
            <a:ext cx="31892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760FD-91BA-4DB0-99F4-D05EB58570C2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1600" y="1241280"/>
            <a:ext cx="4465800" cy="33498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l-PL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74B1C-63E0-413A-A1A3-D0908A77D5BA}" type="slidenum">
              <a:rPr b="0" lang="pl-PL" sz="18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ymbol zastępczy daty 1"/>
          <p:cNvSpPr/>
          <p:nvPr/>
        </p:nvSpPr>
        <p:spPr>
          <a:xfrm>
            <a:off x="4160880" y="0"/>
            <a:ext cx="318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2019-10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4160880" y="11026800"/>
            <a:ext cx="31892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EBED9-6303-40CC-A286-45BEE1977F7A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853920" y="754200"/>
            <a:ext cx="4961160" cy="3722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ymbol zastępczy daty 1"/>
          <p:cNvSpPr/>
          <p:nvPr/>
        </p:nvSpPr>
        <p:spPr>
          <a:xfrm>
            <a:off x="4160880" y="0"/>
            <a:ext cx="318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2019-10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4160880" y="11026800"/>
            <a:ext cx="31892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76636-3C1F-4C89-935A-FAE4DB2B51BD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853920" y="754200"/>
            <a:ext cx="4961160" cy="37224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ymbol zastępczy daty 1"/>
          <p:cNvSpPr/>
          <p:nvPr/>
        </p:nvSpPr>
        <p:spPr>
          <a:xfrm>
            <a:off x="4160880" y="0"/>
            <a:ext cx="318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2019-10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4160880" y="11026800"/>
            <a:ext cx="31892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1EEAD-3B31-46BF-ABCE-CF0F373AFDA1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3920" y="754200"/>
            <a:ext cx="4961160" cy="3722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ymbol zastępczy daty 1"/>
          <p:cNvSpPr/>
          <p:nvPr/>
        </p:nvSpPr>
        <p:spPr>
          <a:xfrm>
            <a:off x="4160880" y="0"/>
            <a:ext cx="318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2019-10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160880" y="11026800"/>
            <a:ext cx="31892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C4393-8805-4522-988A-B634B357560A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ymbol zastępczy daty 1"/>
          <p:cNvSpPr/>
          <p:nvPr/>
        </p:nvSpPr>
        <p:spPr>
          <a:xfrm>
            <a:off x="4160880" y="0"/>
            <a:ext cx="318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2019-10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160880" y="11026800"/>
            <a:ext cx="31892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6C90F-961D-4E5B-A898-EB4D87B136AB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774720" y="882720"/>
            <a:ext cx="5800680" cy="43513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35120" y="5513400"/>
            <a:ext cx="588168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ymbol zastępczy daty 1"/>
          <p:cNvSpPr/>
          <p:nvPr/>
        </p:nvSpPr>
        <p:spPr>
          <a:xfrm>
            <a:off x="4160880" y="0"/>
            <a:ext cx="318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2019-10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160880" y="11026800"/>
            <a:ext cx="31892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5D4C5-2074-4E76-AFD0-5A91055653C6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853920" y="754200"/>
            <a:ext cx="4961160" cy="3722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ymbol zastępczy daty 1"/>
          <p:cNvSpPr/>
          <p:nvPr/>
        </p:nvSpPr>
        <p:spPr>
          <a:xfrm>
            <a:off x="4160880" y="0"/>
            <a:ext cx="318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2019-10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4160880" y="11026800"/>
            <a:ext cx="31892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11ACC-97C5-44B2-9AF1-7E98BAFE857A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53920" y="754200"/>
            <a:ext cx="4961160" cy="3722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ymbol zastępczy daty 1"/>
          <p:cNvSpPr/>
          <p:nvPr/>
        </p:nvSpPr>
        <p:spPr>
          <a:xfrm>
            <a:off x="4160880" y="0"/>
            <a:ext cx="318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2019-10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4160880" y="11026800"/>
            <a:ext cx="31892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E70FE-8E9D-4E6C-BD4C-68936C0AC3A5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53920" y="754200"/>
            <a:ext cx="4961160" cy="3722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ymbol zastępczy daty 1"/>
          <p:cNvSpPr/>
          <p:nvPr/>
        </p:nvSpPr>
        <p:spPr>
          <a:xfrm>
            <a:off x="4160880" y="0"/>
            <a:ext cx="318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2019-10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4160880" y="11026800"/>
            <a:ext cx="31892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FCCCE-38CE-4ADD-A9DD-828CC1951D9D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53920" y="754200"/>
            <a:ext cx="4961160" cy="3722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ymbol zastępczy daty 1"/>
          <p:cNvSpPr/>
          <p:nvPr/>
        </p:nvSpPr>
        <p:spPr>
          <a:xfrm>
            <a:off x="4160880" y="0"/>
            <a:ext cx="318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2019-10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4160880" y="11026800"/>
            <a:ext cx="31892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84EAB-84BA-40FF-8307-04D55969CAC1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53920" y="754200"/>
            <a:ext cx="4961160" cy="3722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ymbol zastępczy daty 1"/>
          <p:cNvSpPr/>
          <p:nvPr/>
        </p:nvSpPr>
        <p:spPr>
          <a:xfrm>
            <a:off x="4160880" y="0"/>
            <a:ext cx="318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2019-10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4160880" y="11026800"/>
            <a:ext cx="31892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5CC6A-BA54-4172-AE5E-4C491A793F83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53920" y="754200"/>
            <a:ext cx="4961160" cy="3722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ymbol zastępczy daty 1"/>
          <p:cNvSpPr/>
          <p:nvPr/>
        </p:nvSpPr>
        <p:spPr>
          <a:xfrm>
            <a:off x="4160880" y="0"/>
            <a:ext cx="318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2019-10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146B7-FE4F-46E1-890B-8BF3EF53BE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076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00C80-C9E9-472E-BE9A-9E184D58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076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02E8F-21E8-4D6D-B8B3-9FA6BA63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076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7556A-F616-4EBF-AA8C-94E0AC14C2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FC214-A361-43DD-8041-E2E32967D4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076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69C21-9F89-4BA6-91F9-0BF89136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076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ED12A-A79A-497B-8DFF-437DE203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076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4B145-E3AF-47AF-8D12-5195F10A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076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76FEE-5E0B-473B-88C1-AB6D6695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285640" y="3123720"/>
            <a:ext cx="6170760" cy="877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6B3E3-17C9-4ECF-B5BE-E5290241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076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66BD2-E5FC-40FB-ADEA-45EB7394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076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A36F4-766A-4591-B67E-97B84790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076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C2DE8-A5A4-4AC8-93C9-CF3C0D87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076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D7800-5CA7-41E7-A6A3-7E027E85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076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35DE5-A652-45BC-85BC-28F66973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076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7BE48-AF6F-4FD2-9D84-8A631A71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076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7F35C-F18E-4B17-B0C6-F58E9A1B7F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076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493C3-E428-4556-900E-39ADB566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076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C4697-9649-46ED-ABD9-99BBD4A0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076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0C0A8-BAFA-44BB-8675-5E5D8408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2285640" y="3123720"/>
            <a:ext cx="6170760" cy="877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8ACA5-11F6-44C8-8E59-8D7D6690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076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527E9-229A-4BB5-A397-A718C983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076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732A9-BADA-4B4A-8A4F-210275C1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076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46B61-4FAC-468B-B426-0D8B65D7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b2c0d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b2c0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0d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156520" y="5715000"/>
            <a:ext cx="547920" cy="5475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076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9097920" y="222120"/>
            <a:ext cx="22845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Schoolbook"/>
              </a:rPr>
              <a:t>2019-10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9"/>
          <p:cNvSpPr/>
          <p:nvPr/>
        </p:nvSpPr>
        <p:spPr>
          <a:xfrm rot="5400000">
            <a:off x="7078680" y="418140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0d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7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990720" y="0"/>
            <a:ext cx="180720" cy="6858000"/>
          </a:xfrm>
          <a:prstGeom prst="rect">
            <a:avLst/>
          </a:prstGeom>
          <a:solidFill>
            <a:srgbClr val="d0d8e7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3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cf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4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b2c0d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15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e9ecf3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16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b2c0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17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b2c0d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18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b2c0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19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b2c0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2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0d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Oval 2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1090440" y="5500800"/>
            <a:ext cx="13680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Oval 24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Oval 25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sldNum" idx="2"/>
          </p:nvPr>
        </p:nvSpPr>
        <p:spPr>
          <a:xfrm>
            <a:off x="13251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8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EE456F8-7283-4A95-BBB9-3C97FBE4968E}" type="slidenum">
              <a:rPr b="0" lang="pl-PL" sz="18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" name="Picture 27" descr=""/>
          <p:cNvPicPr/>
          <p:nvPr/>
        </p:nvPicPr>
        <p:blipFill>
          <a:blip r:embed="rId2"/>
          <a:stretch/>
        </p:blipFill>
        <p:spPr>
          <a:xfrm>
            <a:off x="2843280" y="189000"/>
            <a:ext cx="4773600" cy="931680"/>
          </a:xfrm>
          <a:prstGeom prst="rect">
            <a:avLst/>
          </a:prstGeom>
          <a:ln w="0">
            <a:noFill/>
          </a:ln>
        </p:spPr>
      </p:pic>
      <p:sp>
        <p:nvSpPr>
          <p:cNvPr id="27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b2c0d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b2c0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0d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8156520" y="5715000"/>
            <a:ext cx="547920" cy="5475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3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8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Schoolbook"/>
              </a:rPr>
              <a:t>2019-10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4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8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899ABA-4172-4908-995E-247EAD3DE8FE}" type="slidenum">
              <a:rPr b="0" lang="pl-PL" sz="18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"/>
          <p:cNvPicPr/>
          <p:nvPr/>
        </p:nvPicPr>
        <p:blipFill>
          <a:blip r:embed="rId2"/>
          <a:stretch/>
        </p:blipFill>
        <p:spPr>
          <a:xfrm>
            <a:off x="2073240" y="189000"/>
            <a:ext cx="4773600" cy="9316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22280" y="1917720"/>
            <a:ext cx="6381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Przeprowadzanie czynności kontrolnych nad podmiotami organizującymi pracę z rodziną, placówkami wsparcia dziennego, organizatorami rodzinnej pieczy zastępczej, rodzinami zastępczymi, prowadzącymi rodzinne domy dziecka oraz placówkami opiekuńczo-wychowawczym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A996C5-16EF-43E3-8A57-788C95990AAD}" type="slidenum">
              <a:rPr b="0" lang="pl-PL" sz="18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716360" y="4668840"/>
            <a:ext cx="40849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zemysław Nowakowski-Węgrznow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101680" y="5805360"/>
            <a:ext cx="63579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jekt pn. „Dla rodziny” - doskonalenie zawodowe kadr systemu wspierania rodziny i pieczy zastępczej jest współfinansowany przez Unię Europejską ze środków Europejskiego Funduszu Społecznego w ramach Programu Operacyjnego Wiedza Edukacja Rozwój na lata 2014-2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895814-0331-4A25-B2B7-31CB085EE22A}" type="slidenum">
              <a:rPr b="0" lang="pl-PL" sz="18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457200" y="1224000"/>
            <a:ext cx="806940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nieuwzględnienia zastrzeżeń przez wojewodę kontrolowana jednostka  jest  obowiązana,  w terminie  30dni  od  dnia otrzymania  stanowiska wojewody do  powiadomienia  wojewody  o realizacji zaleceń pokontrol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 uwzględnienia  zastrzeżeń  przez  wojewodę  kontrolowana jednostka  jest  obowiązana,  w terminie  30dni  od  dnia  otrzymania  stanowiska wojewody do  powiadomienia  wojewody  o realizacji zaleceń pokontrolnych, mając na uwadze zmiany wynikające z uwzględnionych zastrzeże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stwierdzenia istotnych uchybień w działalności wojewoda, niezależnie od przysługujących mu innych środków, zawiadamia o stwierdzonych uchybieniach właściwy organ założycielski kontrolowanej jednost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gan do którego skierowano zawiadomienie o stwierdzonych  uchybieniach,  jest  obowiązany,  w terminie   30dni   od   dnia otrzymania zawiadomienia o stwierdzonych uchybieniach, powiadomić wojewodę o podjętych czynności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ymbol zastępczy daty 1"/>
          <p:cNvSpPr/>
          <p:nvPr/>
        </p:nvSpPr>
        <p:spPr>
          <a:xfrm>
            <a:off x="8786880" y="268200"/>
            <a:ext cx="20098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Schoolbook"/>
              </a:rPr>
              <a:t>2019-10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D435E5-FE46-459D-8688-71A6F7E9097B}" type="slidenum">
              <a:rPr b="0" lang="pl-PL" sz="18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57200" y="1344600"/>
            <a:ext cx="841212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to  nie  realizuje  zaleceń  pokontrolnych,  o których  mowa wart.197d ust.1, podlega karze pieniężnej w wysokości od 500do 10000z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arę  nakłada  wojewoda  po  przeprowadzeniu postępowania kontroln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arę pieniężną wymierza,  w drodze decyzji, wojewo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  decyzji przysługuje odwołanie do ministra właściwego do spraw rodzi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 nieuiszczonej w terminie kary pieniężnej pobiera się odsetki ustawowe za opóźnie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ymbol zastępczy daty 1"/>
          <p:cNvSpPr/>
          <p:nvPr/>
        </p:nvSpPr>
        <p:spPr>
          <a:xfrm>
            <a:off x="8786880" y="268200"/>
            <a:ext cx="20098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Schoolbook"/>
              </a:rPr>
              <a:t>2019-10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"/>
          <p:cNvSpPr/>
          <p:nvPr/>
        </p:nvSpPr>
        <p:spPr>
          <a:xfrm>
            <a:off x="2124000" y="5589720"/>
            <a:ext cx="68310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rojekt pn. „Dla rodziny” - doskonalenie zawodowe kadr systemu wspierania rodziny i pieczy zastępczej jest współfinansowany przez Unię Europejską ze środków Europejskiego Funduszu Społecznego w ramach Programu Operacyjnego Wiedza Edukacja Rozwój na lata 2014-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2411280" y="2705040"/>
            <a:ext cx="26463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5057640" y="2768760"/>
            <a:ext cx="316260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935000" y="3500280"/>
            <a:ext cx="67644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ww.sosdlarodziny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744AD5-8158-4917-8CF7-7ED74DFCD3F7}" type="slidenum">
              <a:rPr b="0" lang="pl-PL" sz="18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ole tekstowe 7"/>
          <p:cNvSpPr/>
          <p:nvPr/>
        </p:nvSpPr>
        <p:spPr>
          <a:xfrm>
            <a:off x="2556000" y="2133720"/>
            <a:ext cx="5256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  <a:ea typeface="Calibri"/>
              </a:rPr>
              <a:t>DZIĘKUJĘ ZA UWAGĘ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ymbol zastępczy daty 1"/>
          <p:cNvSpPr/>
          <p:nvPr/>
        </p:nvSpPr>
        <p:spPr>
          <a:xfrm>
            <a:off x="9097920" y="222120"/>
            <a:ext cx="22845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Schoolbook"/>
              </a:rPr>
              <a:t>2019-10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l-PL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32000" y="2087280"/>
            <a:ext cx="645480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gadnienia ochrony danych osobowych (RODO) w kontrol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lanowanie kontroli (uchwały, dokumenty, plany, protokoły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Symbol zastępczy daty 1"/>
          <p:cNvSpPr/>
          <p:nvPr/>
        </p:nvSpPr>
        <p:spPr>
          <a:xfrm>
            <a:off x="9097920" y="222120"/>
            <a:ext cx="22845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Schoolbook"/>
              </a:rPr>
              <a:t>2019-10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82DC95-052A-40AC-AD19-5C7020787671}" type="slidenum">
              <a:rPr b="0" lang="pl-PL" sz="18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19160" y="2016000"/>
            <a:ext cx="89265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rt.28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ójt sprawuje kontrolę nad podmiotami organizującymi pracę z rodziną oraz placówkami wsparcia dziennego. W przypadku placówek, o których mowa wart.18 ust.3, kontrolę sprawuje zarząd powi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60360" y="3311640"/>
            <a:ext cx="868356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ójt  może  upoważnić,  w formie  pisemnej,  do  sprawowania  kontroli, o której mowa w ust.1, swojego zastępcę, pracownika urzędu albo kierownika jednostki  organizacyjnej  gminy.  Osobami  upoważnionymi  nie  mogą  być pracownicy kontrolowanych jednost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rząd  powiatu  może  upoważnić,  w formie  pisemnej,  do  sprawowania kontroli, o której mowa w ust.1, członka zarządu powiatu, pracownika urzędu albo kierownika jednostki organizacyjnej powiatu. Osobami upoważnionymi nie mogą być pracownicy kontrolowanych jednost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+ INNE PODMIOTY UPRAWNIONE DO KONTR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ymbol zastępczy daty 1"/>
          <p:cNvSpPr/>
          <p:nvPr/>
        </p:nvSpPr>
        <p:spPr>
          <a:xfrm>
            <a:off x="8786880" y="268200"/>
            <a:ext cx="20098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Schoolbook"/>
              </a:rPr>
              <a:t>2019-10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E94D08-08CC-49FC-91C9-221C5C2CBF02}" type="slidenum">
              <a:rPr b="0" lang="pl-PL" sz="18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57200" y="1773360"/>
            <a:ext cx="87613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A KONTROLUJĄC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)żądania  informacji,  dokumentów  i danych,  niezbędnych  do  sprawowania kontrol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wstępu wciągu doby do obiektów i pomieszczeń kontrolowanej jednostk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przeprowadzania  oględzin  obiektów,  składników  majątku  kontrolowanej jednostki  oraz  przebiegu  określonych  czynności  objętych  obowiązującym standard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)żądania  od  pracowników  kontrolowanej  jednostki  udzielenia  informacji w formie ustnej lub pisemnej w zakresie przeprowadzanej kontrol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5)obserwacji dzieci przebywających w placówkach wsparcia dzienneg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6)przeprowadzania  indywidualnych  rozmów  z dziećmi  przebywającymi w placówkach  wsparcia  dziennego,  w tym zasięgania  opinii    dzieci, z uwzględnieniem  ich  wieku,  możliwości  intelektualnych  oraz  stopnia dojrzałości poznawcz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OSOBY PRZEPROWADZANIA KONTR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ymbol zastępczy daty 1"/>
          <p:cNvSpPr/>
          <p:nvPr/>
        </p:nvSpPr>
        <p:spPr>
          <a:xfrm>
            <a:off x="8786880" y="268200"/>
            <a:ext cx="20098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Schoolbook"/>
              </a:rPr>
              <a:t>2019-10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C5E31C9-2C65-4CE1-9E14-B428FFA43E44}" type="slidenum">
              <a:rPr b="0" lang="pl-PL" sz="18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-4680" y="1579680"/>
            <a:ext cx="929304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 fontScale="99000"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TROLA WOJEW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zynności kontrolne w imieniu i z upoważnienia  wojewody  przeprowadzają upoważnieni  pracownicy  wydziału właściwego  do  spraw  wspierania  rodziny,  pieczy  zastępczej,  usamodzielnień pełnoletnich  wychowanków  i adopcji  urzędu  wojewódzkiego  w zespołach  co najmniej dwuosobowych, zwanych dalej „zespołami inspektorów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1160" y="3941640"/>
            <a:ext cx="91422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spół  inspektorów,  wykonując  w kontrolowanej  jednostce  czynności,   jest  obowiązany  do  okazania  legitymacji służbowych oraz imiennego upoważnienia do prowadzenia czynności kontrolnych wskazującego kontrolowaną jednostk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431640" y="5187960"/>
            <a:ext cx="828072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orządzenie Ministra Pracy i Polityki Społecznej z dnia 21 sierpnia 2015 r. w sprawie przeprowadzania kontroli przez wojewodę oraz wzoru legitymacji uprawniającej do przeprowadzania kontr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ymbol zastępczy daty 1"/>
          <p:cNvSpPr/>
          <p:nvPr/>
        </p:nvSpPr>
        <p:spPr>
          <a:xfrm>
            <a:off x="8786880" y="268200"/>
            <a:ext cx="20098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Schoolbook"/>
              </a:rPr>
              <a:t>2019-10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266760" y="1008000"/>
            <a:ext cx="858816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ojewoda   w związku  z przeprowadzanym  postępowaniem kontrolnym ma prawo 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)żądania  informacji,  dokumentów  i danych,  niezbędnych  do  sprawowania kontrol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wstępu wciągu doby do obiektów i pomieszczeń kontrolowanej jednostk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przeprowadzania  oględzin  obiektów,  składników  majątku  kontrolowanej jednostki  oraz  przebiegu  określonych  czynności  objętych  obowiązującym standard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)żądania  od  pracowników  kontrolowanej  jednostki  udzielenia  informacji w formie ustnej i pisemnej w zakresie przeprowadzanej kontrol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5)wzywania i przesłuchiwania świadk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6)zwrócenia się o wydanie opinii biegł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)obserwacji  dzieci  umieszczonych w instytucjonalnej pieczy zastępczej lub przebywających w placówkach wsparcia dzienneg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8)przeprowadzania  indywidualnych  rozmów  z dziećmi  umieszczonymi w instytucjonalnej  pieczy  zastępczej  oraz  z dziećmi  przebywającymi w placówkach  wsparcia  dziennego,  w tym  zasięgania  opinii  dzieci, z uwzględnieniem  ich  wieku,  możliwości  intelektualnych  oraz  stopnia dojrzałości poznawcz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9)obserwacji  zajęć  prowadzonych  przez  wychowawcę  w instytucjonalnej pieczy zastępczej oraz w placówkach wsparcia dzienn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ymbol zastępczy daty 1"/>
          <p:cNvSpPr/>
          <p:nvPr/>
        </p:nvSpPr>
        <p:spPr>
          <a:xfrm>
            <a:off x="8786880" y="268200"/>
            <a:ext cx="20098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Schoolbook"/>
              </a:rPr>
              <a:t>2019-10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E74C08-BD01-4CB3-923A-611BD82D9D33}" type="slidenum">
              <a:rPr b="0" lang="pl-PL" sz="18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457200" y="1154160"/>
            <a:ext cx="87580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złonkiem zespołu inspektorów upoważnionym do prowadzenia czynności kontrolnych w kontrolowanych jednostkach może być osoba, która posia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)tytuł  zawodowy  magistra  na  kierunku  pedagogika,  pedagogika  specjalna, psychologia,  nauki  o rodzinie  lub  na  innym  kierunku,  którego  program obejmuje  resocjalizację,  pracę  socjalną,  pedagogikę  opiekuńczo—wychowawcz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co najmniej trzyletni staż pracy w zawodzie  pedagoga  lub  psychologa  albo w zakresie resocjalizacji lub co najmniej trzyletni staż pracy z dziećmi lub rodziną w jednostkach organizacyjnych wspierania rodziny i systemu pieczy zastępcz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kontroli spraw, w przypadku których zachodzi konieczność zapoznania się  z informacjami  niejawnymi,  kontrolujący  inspektor  powinien  posiadać poświadczenie  bezpieczeństwa  upoważniające  do  dostępu  do  informacji niejawnych, uzyskane na podstawie przepisów ustawy z dnia  5sierpnia  2010r. O ochronie informacji niejawnych (Dz.U. z 2018 r. poz.412 i 65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ymbol zastępczy daty 1"/>
          <p:cNvSpPr/>
          <p:nvPr/>
        </p:nvSpPr>
        <p:spPr>
          <a:xfrm>
            <a:off x="8786880" y="268200"/>
            <a:ext cx="20098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Schoolbook"/>
              </a:rPr>
              <a:t>2019-10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6B4B22-D891-4788-B5E9-37B887ACAC6B}" type="slidenum">
              <a:rPr b="0" lang="pl-PL" sz="18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936720" y="1795320"/>
            <a:ext cx="65516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ojewoda  w związku z prowadzoną kontrolą może wystąpić z wnioskiem do właściwego miejscowo komendanta Policji o pomoc, jeżeli jest to niezbędne do przeprowadzenia czynności Komendant Policji jest obowiązany do zapewnienia zespołowi inspektorów pomocy Policji wtoku wykonywanych przez ten zespół czynnoś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ymbol zastępczy daty 1"/>
          <p:cNvSpPr/>
          <p:nvPr/>
        </p:nvSpPr>
        <p:spPr>
          <a:xfrm>
            <a:off x="8786880" y="268200"/>
            <a:ext cx="20098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Schoolbook"/>
              </a:rPr>
              <a:t>2019-10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CA936E8-2C2B-4E35-BF87-EBBAACCD6546}" type="slidenum">
              <a:rPr b="0" lang="pl-PL" sz="18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433440" y="1600200"/>
            <a:ext cx="8134200" cy="31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ojewoda,  po  przeprowadzeniu  postępowania  kontrolnego, może wydać zalecenia pokontrol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trolowana  jednostka  może,  w terminie   7dni   od   dnia   otrzymania zaleceń pokontrolnych, zgłosić do nich zastrzeż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ojewoda,  w terminie  14dni od dnia otrzymania zastrzeżeń, o których mowa w ust.2, przedstawia stanowisko w sprawie ich uwzględni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+ ANALIZA ZALECEŃ POKONTROL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ymbol zastępczy daty 1"/>
          <p:cNvSpPr/>
          <p:nvPr/>
        </p:nvSpPr>
        <p:spPr>
          <a:xfrm>
            <a:off x="8786880" y="268200"/>
            <a:ext cx="20098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Schoolbook"/>
              </a:rPr>
              <a:t>2019-10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zena Piechowiak</dc:creator>
  <dc:description/>
  <dc:language>en-US</dc:language>
  <cp:lastModifiedBy>Piechowiak Marzena</cp:lastModifiedBy>
  <cp:lastPrinted>2019-10-08T12:43:39Z</cp:lastPrinted>
  <dcterms:modified xsi:type="dcterms:W3CDTF">2019-10-08T12:45:53Z</dcterms:modified>
  <cp:revision>7</cp:revision>
  <dc:subject/>
  <dc:title>Przeprowadzanie czynności kontrolnych nad podmiotami organizującymi pracę z rodziną, placówkami wsparcia dziennego, organizatorami rodzinnej pieczy zastępczej, rodzinami zastępczymi, prowadzącymi rodzinne domy dziecka oraz placówkami opiekuńczo-wychowawczymi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>29;#Tarnowski Grzegorz</vt:lpwstr>
  </property>
  <property fmtid="{D5CDD505-2E9C-101B-9397-08002B2CF9AE}" pid="3" name="display_urn:schemas-microsoft-com:office:office#SharedWithUsers">
    <vt:lpwstr>Tarnowski Grzegorz</vt:lpwstr>
  </property>
</Properties>
</file>